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2E2E2-A1DA-47A7-84D0-4822F8A0E29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A4065-D5D1-4572-A72D-314432D61A1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2" name="PlaceHolder 1"/>
          <p:cNvSpPr>
            <a:spLocks noGrp="1"/>
          </p:cNvSpPr>
          <p:nvPr>
            <p:ph type="sldImg"/>
          </p:nvPr>
        </p:nvSpPr>
        <p:spPr>
          <a:xfrm>
            <a:off x="985680" y="733320"/>
            <a:ext cx="4886640" cy="3665520"/>
          </a:xfrm>
          <a:prstGeom prst="rect">
            <a:avLst/>
          </a:prstGeom>
          <a:ln w="0">
            <a:noFill/>
          </a:ln>
        </p:spPr>
      </p:sp>
      <p:sp>
        <p:nvSpPr>
          <p:cNvPr id="6733"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1CEBF-3704-4A76-AD4E-C4C3B7CD56C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9F69F-65BC-4FDB-88A2-27279C05E6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8" name="PlaceHolder 1"/>
          <p:cNvSpPr>
            <a:spLocks noGrp="1"/>
          </p:cNvSpPr>
          <p:nvPr>
            <p:ph type="sldImg"/>
          </p:nvPr>
        </p:nvSpPr>
        <p:spPr>
          <a:xfrm>
            <a:off x="985680" y="741240"/>
            <a:ext cx="4886640" cy="3665520"/>
          </a:xfrm>
          <a:prstGeom prst="rect">
            <a:avLst/>
          </a:prstGeom>
          <a:ln w="0">
            <a:noFill/>
          </a:ln>
        </p:spPr>
      </p:sp>
      <p:sp>
        <p:nvSpPr>
          <p:cNvPr id="6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9B21F-0DBB-4A73-8B67-93C1DF18E8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EE814-B52F-464D-94D7-E8B6546099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2" name="PlaceHolder 1"/>
          <p:cNvSpPr>
            <a:spLocks noGrp="1"/>
          </p:cNvSpPr>
          <p:nvPr>
            <p:ph type="sldImg"/>
          </p:nvPr>
        </p:nvSpPr>
        <p:spPr>
          <a:xfrm>
            <a:off x="985680" y="741240"/>
            <a:ext cx="4886640" cy="3665520"/>
          </a:xfrm>
          <a:prstGeom prst="rect">
            <a:avLst/>
          </a:prstGeom>
          <a:ln w="0">
            <a:noFill/>
          </a:ln>
        </p:spPr>
      </p:sp>
      <p:sp>
        <p:nvSpPr>
          <p:cNvPr id="6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FCA15-1BF4-425A-8383-B963DDC466C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5597D-1849-4FD8-8213-E8422738C8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6" name="PlaceHolder 1"/>
          <p:cNvSpPr>
            <a:spLocks noGrp="1"/>
          </p:cNvSpPr>
          <p:nvPr>
            <p:ph type="sldImg"/>
          </p:nvPr>
        </p:nvSpPr>
        <p:spPr>
          <a:xfrm>
            <a:off x="985680" y="741240"/>
            <a:ext cx="4886640" cy="3665520"/>
          </a:xfrm>
          <a:prstGeom prst="rect">
            <a:avLst/>
          </a:prstGeom>
          <a:ln w="0">
            <a:noFill/>
          </a:ln>
        </p:spPr>
      </p:sp>
      <p:sp>
        <p:nvSpPr>
          <p:cNvPr id="6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8DF2C-C509-437A-BAC9-177203EAB6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7EEF3-289F-415F-B169-3724DD6047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0" name="PlaceHolder 1"/>
          <p:cNvSpPr>
            <a:spLocks noGrp="1"/>
          </p:cNvSpPr>
          <p:nvPr>
            <p:ph type="sldImg"/>
          </p:nvPr>
        </p:nvSpPr>
        <p:spPr>
          <a:xfrm>
            <a:off x="985680" y="741240"/>
            <a:ext cx="4886640" cy="3665520"/>
          </a:xfrm>
          <a:prstGeom prst="rect">
            <a:avLst/>
          </a:prstGeom>
          <a:ln w="0">
            <a:noFill/>
          </a:ln>
        </p:spPr>
      </p:sp>
      <p:sp>
        <p:nvSpPr>
          <p:cNvPr id="6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C12B2-7475-42C1-B476-C96886513F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18E21-C499-4C50-B038-9A322125BA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4" name="PlaceHolder 1"/>
          <p:cNvSpPr>
            <a:spLocks noGrp="1"/>
          </p:cNvSpPr>
          <p:nvPr>
            <p:ph type="sldImg"/>
          </p:nvPr>
        </p:nvSpPr>
        <p:spPr>
          <a:xfrm>
            <a:off x="985680" y="741240"/>
            <a:ext cx="4886640" cy="3665520"/>
          </a:xfrm>
          <a:prstGeom prst="rect">
            <a:avLst/>
          </a:prstGeom>
          <a:ln w="0">
            <a:noFill/>
          </a:ln>
        </p:spPr>
      </p:sp>
      <p:sp>
        <p:nvSpPr>
          <p:cNvPr id="6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6BF4E-34F5-4A77-8214-AF54D54C8ED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B8BEE-5E3B-47A3-A1CC-C53F8A2C7E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8" name="PlaceHolder 1"/>
          <p:cNvSpPr>
            <a:spLocks noGrp="1"/>
          </p:cNvSpPr>
          <p:nvPr>
            <p:ph type="sldImg"/>
          </p:nvPr>
        </p:nvSpPr>
        <p:spPr>
          <a:xfrm>
            <a:off x="985680" y="741240"/>
            <a:ext cx="4886640" cy="3665520"/>
          </a:xfrm>
          <a:prstGeom prst="rect">
            <a:avLst/>
          </a:prstGeom>
          <a:ln w="0">
            <a:noFill/>
          </a:ln>
        </p:spPr>
      </p:sp>
      <p:sp>
        <p:nvSpPr>
          <p:cNvPr id="6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1342E-5048-4C90-BCED-D0639AB8DB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945EB-9778-4BFB-A013-6E644AC104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2" name="PlaceHolder 1"/>
          <p:cNvSpPr>
            <a:spLocks noGrp="1"/>
          </p:cNvSpPr>
          <p:nvPr>
            <p:ph type="sldImg"/>
          </p:nvPr>
        </p:nvSpPr>
        <p:spPr>
          <a:xfrm>
            <a:off x="985680" y="741240"/>
            <a:ext cx="4886640" cy="3665520"/>
          </a:xfrm>
          <a:prstGeom prst="rect">
            <a:avLst/>
          </a:prstGeom>
          <a:ln w="0">
            <a:noFill/>
          </a:ln>
        </p:spPr>
      </p:sp>
      <p:sp>
        <p:nvSpPr>
          <p:cNvPr id="6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16973-D99F-4C97-BB97-669D20178C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C4C59-66AC-4C5A-B427-459C34BCC5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6" name="PlaceHolder 1"/>
          <p:cNvSpPr>
            <a:spLocks noGrp="1"/>
          </p:cNvSpPr>
          <p:nvPr>
            <p:ph type="sldImg"/>
          </p:nvPr>
        </p:nvSpPr>
        <p:spPr>
          <a:xfrm>
            <a:off x="985680" y="741240"/>
            <a:ext cx="4886640" cy="3665520"/>
          </a:xfrm>
          <a:prstGeom prst="rect">
            <a:avLst/>
          </a:prstGeom>
          <a:ln w="0">
            <a:noFill/>
          </a:ln>
        </p:spPr>
      </p:sp>
      <p:sp>
        <p:nvSpPr>
          <p:cNvPr id="6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84BF8-84AD-43C9-839E-8DFFF96586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E9F2A-A752-44B8-AE53-80F77605C3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0" name="PlaceHolder 1"/>
          <p:cNvSpPr>
            <a:spLocks noGrp="1"/>
          </p:cNvSpPr>
          <p:nvPr>
            <p:ph type="sldImg"/>
          </p:nvPr>
        </p:nvSpPr>
        <p:spPr>
          <a:xfrm>
            <a:off x="985680" y="741240"/>
            <a:ext cx="4886640" cy="3665520"/>
          </a:xfrm>
          <a:prstGeom prst="rect">
            <a:avLst/>
          </a:prstGeom>
          <a:ln w="0">
            <a:noFill/>
          </a:ln>
        </p:spPr>
      </p:sp>
      <p:sp>
        <p:nvSpPr>
          <p:cNvPr id="6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3D92B-0305-443A-8F40-45E15E219C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CF9C8-4877-44ED-83CC-73A15766CD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4" name="PlaceHolder 1"/>
          <p:cNvSpPr>
            <a:spLocks noGrp="1"/>
          </p:cNvSpPr>
          <p:nvPr>
            <p:ph type="sldImg"/>
          </p:nvPr>
        </p:nvSpPr>
        <p:spPr>
          <a:xfrm>
            <a:off x="985680" y="741240"/>
            <a:ext cx="4886640" cy="3665520"/>
          </a:xfrm>
          <a:prstGeom prst="rect">
            <a:avLst/>
          </a:prstGeom>
          <a:ln w="0">
            <a:noFill/>
          </a:ln>
        </p:spPr>
      </p:sp>
      <p:sp>
        <p:nvSpPr>
          <p:cNvPr id="6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E7D82-7CCD-47AE-A028-A1F992E627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37AB3-DB22-49D7-949C-A6CE9D3A71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6" name="PlaceHolder 1"/>
          <p:cNvSpPr>
            <a:spLocks noGrp="1"/>
          </p:cNvSpPr>
          <p:nvPr>
            <p:ph type="sldImg"/>
          </p:nvPr>
        </p:nvSpPr>
        <p:spPr>
          <a:xfrm>
            <a:off x="985680" y="741240"/>
            <a:ext cx="4886640" cy="3665520"/>
          </a:xfrm>
          <a:prstGeom prst="rect">
            <a:avLst/>
          </a:prstGeom>
          <a:ln w="0">
            <a:noFill/>
          </a:ln>
        </p:spPr>
      </p:sp>
      <p:sp>
        <p:nvSpPr>
          <p:cNvPr id="6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B6990-4D45-423A-A5D2-DB8348B0E6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D1182-CE7F-444A-9899-3F39710738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8" name="PlaceHolder 1"/>
          <p:cNvSpPr>
            <a:spLocks noGrp="1"/>
          </p:cNvSpPr>
          <p:nvPr>
            <p:ph type="sldImg"/>
          </p:nvPr>
        </p:nvSpPr>
        <p:spPr>
          <a:xfrm>
            <a:off x="985680" y="741240"/>
            <a:ext cx="4886640" cy="3665520"/>
          </a:xfrm>
          <a:prstGeom prst="rect">
            <a:avLst/>
          </a:prstGeom>
          <a:ln w="0">
            <a:noFill/>
          </a:ln>
        </p:spPr>
      </p:sp>
      <p:sp>
        <p:nvSpPr>
          <p:cNvPr id="6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40C96-4C49-43F2-B5B7-4F690DBAE8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56EDF-38F8-4168-B911-A237C7ADC8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2" name="PlaceHolder 1"/>
          <p:cNvSpPr>
            <a:spLocks noGrp="1"/>
          </p:cNvSpPr>
          <p:nvPr>
            <p:ph type="sldImg"/>
          </p:nvPr>
        </p:nvSpPr>
        <p:spPr>
          <a:xfrm>
            <a:off x="985680" y="741240"/>
            <a:ext cx="4886640" cy="3665520"/>
          </a:xfrm>
          <a:prstGeom prst="rect">
            <a:avLst/>
          </a:prstGeom>
          <a:ln w="0">
            <a:noFill/>
          </a:ln>
        </p:spPr>
      </p:sp>
      <p:sp>
        <p:nvSpPr>
          <p:cNvPr id="6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E346C-54D6-4FB3-839D-EA803E3B31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96EE0-BEFC-4044-AA01-F8F89B18AB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6" name="PlaceHolder 1"/>
          <p:cNvSpPr>
            <a:spLocks noGrp="1"/>
          </p:cNvSpPr>
          <p:nvPr>
            <p:ph type="sldImg"/>
          </p:nvPr>
        </p:nvSpPr>
        <p:spPr>
          <a:xfrm>
            <a:off x="985680" y="741240"/>
            <a:ext cx="4886640" cy="3665520"/>
          </a:xfrm>
          <a:prstGeom prst="rect">
            <a:avLst/>
          </a:prstGeom>
          <a:ln w="0">
            <a:noFill/>
          </a:ln>
        </p:spPr>
      </p:sp>
      <p:sp>
        <p:nvSpPr>
          <p:cNvPr id="6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03C81-AA28-46AD-B9E5-09C5B05870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9743C-C6A9-483A-BF88-419C57EC72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0" name="PlaceHolder 1"/>
          <p:cNvSpPr>
            <a:spLocks noGrp="1"/>
          </p:cNvSpPr>
          <p:nvPr>
            <p:ph type="sldImg"/>
          </p:nvPr>
        </p:nvSpPr>
        <p:spPr>
          <a:xfrm>
            <a:off x="985680" y="741240"/>
            <a:ext cx="4886640" cy="3665520"/>
          </a:xfrm>
          <a:prstGeom prst="rect">
            <a:avLst/>
          </a:prstGeom>
          <a:ln w="0">
            <a:noFill/>
          </a:ln>
        </p:spPr>
      </p:sp>
      <p:sp>
        <p:nvSpPr>
          <p:cNvPr id="6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442F0-A0F0-4C78-88D1-3649B10C78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A2C87-8004-46FB-B6DE-B5818657E5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4" name="PlaceHolder 1"/>
          <p:cNvSpPr>
            <a:spLocks noGrp="1"/>
          </p:cNvSpPr>
          <p:nvPr>
            <p:ph type="sldImg"/>
          </p:nvPr>
        </p:nvSpPr>
        <p:spPr>
          <a:xfrm>
            <a:off x="985680" y="741240"/>
            <a:ext cx="4886640" cy="3665520"/>
          </a:xfrm>
          <a:prstGeom prst="rect">
            <a:avLst/>
          </a:prstGeom>
          <a:ln w="0">
            <a:noFill/>
          </a:ln>
        </p:spPr>
      </p:sp>
      <p:sp>
        <p:nvSpPr>
          <p:cNvPr id="6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FC010-D7A6-41C6-94BF-7CA6E9F6B1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6E782-A698-496F-A48A-06E4F9E6CF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8" name="PlaceHolder 1"/>
          <p:cNvSpPr>
            <a:spLocks noGrp="1"/>
          </p:cNvSpPr>
          <p:nvPr>
            <p:ph type="sldImg"/>
          </p:nvPr>
        </p:nvSpPr>
        <p:spPr>
          <a:xfrm>
            <a:off x="985680" y="741240"/>
            <a:ext cx="4886640" cy="3665520"/>
          </a:xfrm>
          <a:prstGeom prst="rect">
            <a:avLst/>
          </a:prstGeom>
          <a:ln w="0">
            <a:noFill/>
          </a:ln>
        </p:spPr>
      </p:sp>
      <p:sp>
        <p:nvSpPr>
          <p:cNvPr id="6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23728-7CD1-433F-B4B7-E0E21BEF85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8E48B-7CDF-4EDD-B48C-53ADACD2024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2" name="PlaceHolder 1"/>
          <p:cNvSpPr>
            <a:spLocks noGrp="1"/>
          </p:cNvSpPr>
          <p:nvPr>
            <p:ph type="sldImg"/>
          </p:nvPr>
        </p:nvSpPr>
        <p:spPr>
          <a:xfrm>
            <a:off x="985680" y="741240"/>
            <a:ext cx="4886640" cy="3665520"/>
          </a:xfrm>
          <a:prstGeom prst="rect">
            <a:avLst/>
          </a:prstGeom>
          <a:ln w="0">
            <a:noFill/>
          </a:ln>
        </p:spPr>
      </p:sp>
      <p:sp>
        <p:nvSpPr>
          <p:cNvPr id="6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F2F7D-2E8A-45EB-BCF2-418F6B6BB7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DEB53-B880-4680-A899-70DF2672168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6" name="PlaceHolder 1"/>
          <p:cNvSpPr>
            <a:spLocks noGrp="1"/>
          </p:cNvSpPr>
          <p:nvPr>
            <p:ph type="sldImg"/>
          </p:nvPr>
        </p:nvSpPr>
        <p:spPr>
          <a:xfrm>
            <a:off x="985680" y="741240"/>
            <a:ext cx="4886640" cy="3665520"/>
          </a:xfrm>
          <a:prstGeom prst="rect">
            <a:avLst/>
          </a:prstGeom>
          <a:ln w="0">
            <a:noFill/>
          </a:ln>
        </p:spPr>
      </p:sp>
      <p:sp>
        <p:nvSpPr>
          <p:cNvPr id="6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84898-2E05-45E3-A6C3-9C21802A3E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C7224-0ADD-4F3F-B63B-9FC8F6DBA1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0" name="PlaceHolder 1"/>
          <p:cNvSpPr>
            <a:spLocks noGrp="1"/>
          </p:cNvSpPr>
          <p:nvPr>
            <p:ph type="sldImg"/>
          </p:nvPr>
        </p:nvSpPr>
        <p:spPr>
          <a:xfrm>
            <a:off x="985680" y="741240"/>
            <a:ext cx="4886640" cy="3665520"/>
          </a:xfrm>
          <a:prstGeom prst="rect">
            <a:avLst/>
          </a:prstGeom>
          <a:ln w="0">
            <a:noFill/>
          </a:ln>
        </p:spPr>
      </p:sp>
      <p:sp>
        <p:nvSpPr>
          <p:cNvPr id="6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60B98-D975-4D4D-BC17-5B48ED3CE23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D4F11-EA01-4D94-8C74-6E76048F09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4" name="PlaceHolder 1"/>
          <p:cNvSpPr>
            <a:spLocks noGrp="1"/>
          </p:cNvSpPr>
          <p:nvPr>
            <p:ph type="sldImg"/>
          </p:nvPr>
        </p:nvSpPr>
        <p:spPr>
          <a:xfrm>
            <a:off x="985680" y="741240"/>
            <a:ext cx="4886640" cy="3665520"/>
          </a:xfrm>
          <a:prstGeom prst="rect">
            <a:avLst/>
          </a:prstGeom>
          <a:ln w="0">
            <a:noFill/>
          </a:ln>
        </p:spPr>
      </p:sp>
      <p:sp>
        <p:nvSpPr>
          <p:cNvPr id="6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EF912-B3E9-4A06-875B-37555CD696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ECB0A-91DF-4D50-98B8-44F33CEFB5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0" name="PlaceHolder 1"/>
          <p:cNvSpPr>
            <a:spLocks noGrp="1"/>
          </p:cNvSpPr>
          <p:nvPr>
            <p:ph type="sldImg"/>
          </p:nvPr>
        </p:nvSpPr>
        <p:spPr>
          <a:xfrm>
            <a:off x="985680" y="741240"/>
            <a:ext cx="4886640" cy="3665520"/>
          </a:xfrm>
          <a:prstGeom prst="rect">
            <a:avLst/>
          </a:prstGeom>
          <a:ln w="0">
            <a:noFill/>
          </a:ln>
        </p:spPr>
      </p:sp>
      <p:sp>
        <p:nvSpPr>
          <p:cNvPr id="6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572A0-0DD2-4051-9461-D309C9A8881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3065E-8EC3-4C5B-A95A-905E8BFB50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8" name="PlaceHolder 1"/>
          <p:cNvSpPr>
            <a:spLocks noGrp="1"/>
          </p:cNvSpPr>
          <p:nvPr>
            <p:ph type="sldImg"/>
          </p:nvPr>
        </p:nvSpPr>
        <p:spPr>
          <a:xfrm>
            <a:off x="985680" y="741240"/>
            <a:ext cx="4886640" cy="3665520"/>
          </a:xfrm>
          <a:prstGeom prst="rect">
            <a:avLst/>
          </a:prstGeom>
          <a:ln w="0">
            <a:noFill/>
          </a:ln>
        </p:spPr>
      </p:sp>
      <p:sp>
        <p:nvSpPr>
          <p:cNvPr id="6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487D5-AEFE-42F3-8A1D-DCF83BD335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30F27-73AF-4C99-84A6-210A14E307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2" name="PlaceHolder 1"/>
          <p:cNvSpPr>
            <a:spLocks noGrp="1"/>
          </p:cNvSpPr>
          <p:nvPr>
            <p:ph type="sldImg"/>
          </p:nvPr>
        </p:nvSpPr>
        <p:spPr>
          <a:xfrm>
            <a:off x="985680" y="741240"/>
            <a:ext cx="4886640" cy="3665520"/>
          </a:xfrm>
          <a:prstGeom prst="rect">
            <a:avLst/>
          </a:prstGeom>
          <a:ln w="0">
            <a:noFill/>
          </a:ln>
        </p:spPr>
      </p:sp>
      <p:sp>
        <p:nvSpPr>
          <p:cNvPr id="6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F96A3-4030-4C2A-9654-7A2E14FEF0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9A23B-584C-4354-8C35-33C98364FB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6" name="PlaceHolder 1"/>
          <p:cNvSpPr>
            <a:spLocks noGrp="1"/>
          </p:cNvSpPr>
          <p:nvPr>
            <p:ph type="sldImg"/>
          </p:nvPr>
        </p:nvSpPr>
        <p:spPr>
          <a:xfrm>
            <a:off x="985680" y="741240"/>
            <a:ext cx="4886640" cy="3665520"/>
          </a:xfrm>
          <a:prstGeom prst="rect">
            <a:avLst/>
          </a:prstGeom>
          <a:ln w="0">
            <a:noFill/>
          </a:ln>
        </p:spPr>
      </p:sp>
      <p:sp>
        <p:nvSpPr>
          <p:cNvPr id="6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D5DB0-337F-4323-BE39-5027354AF93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FDB53-D112-4919-A9C2-3560E56F85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0" name="PlaceHolder 1"/>
          <p:cNvSpPr>
            <a:spLocks noGrp="1"/>
          </p:cNvSpPr>
          <p:nvPr>
            <p:ph type="sldImg"/>
          </p:nvPr>
        </p:nvSpPr>
        <p:spPr>
          <a:xfrm>
            <a:off x="985680" y="741240"/>
            <a:ext cx="4886640" cy="3665520"/>
          </a:xfrm>
          <a:prstGeom prst="rect">
            <a:avLst/>
          </a:prstGeom>
          <a:ln w="0">
            <a:noFill/>
          </a:ln>
        </p:spPr>
      </p:sp>
      <p:sp>
        <p:nvSpPr>
          <p:cNvPr id="6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D9A39-DAFF-4332-AA38-9E32524831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86A1C-7B8F-4601-9816-545E94DB77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4" name="PlaceHolder 1"/>
          <p:cNvSpPr>
            <a:spLocks noGrp="1"/>
          </p:cNvSpPr>
          <p:nvPr>
            <p:ph type="sldImg"/>
          </p:nvPr>
        </p:nvSpPr>
        <p:spPr>
          <a:xfrm>
            <a:off x="985680" y="741240"/>
            <a:ext cx="4886640" cy="3665520"/>
          </a:xfrm>
          <a:prstGeom prst="rect">
            <a:avLst/>
          </a:prstGeom>
          <a:ln w="0">
            <a:noFill/>
          </a:ln>
        </p:spPr>
      </p:sp>
      <p:sp>
        <p:nvSpPr>
          <p:cNvPr id="6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E2C4F-DC07-4B94-B80C-CE3B65E8DA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F4256-8FA9-43BE-A6F6-7FFA8FC4D1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8" name="PlaceHolder 1"/>
          <p:cNvSpPr>
            <a:spLocks noGrp="1"/>
          </p:cNvSpPr>
          <p:nvPr>
            <p:ph type="sldImg"/>
          </p:nvPr>
        </p:nvSpPr>
        <p:spPr>
          <a:xfrm>
            <a:off x="985680" y="741240"/>
            <a:ext cx="4886640" cy="3665520"/>
          </a:xfrm>
          <a:prstGeom prst="rect">
            <a:avLst/>
          </a:prstGeom>
          <a:ln w="0">
            <a:noFill/>
          </a:ln>
        </p:spPr>
      </p:sp>
      <p:sp>
        <p:nvSpPr>
          <p:cNvPr id="6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0EC2F-5154-4867-A9A3-B29311EA0B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970C2-7ACA-4BDE-89BE-77B2E83660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2" name="PlaceHolder 1"/>
          <p:cNvSpPr>
            <a:spLocks noGrp="1"/>
          </p:cNvSpPr>
          <p:nvPr>
            <p:ph type="sldImg"/>
          </p:nvPr>
        </p:nvSpPr>
        <p:spPr>
          <a:xfrm>
            <a:off x="985680" y="741240"/>
            <a:ext cx="4886640" cy="3665520"/>
          </a:xfrm>
          <a:prstGeom prst="rect">
            <a:avLst/>
          </a:prstGeom>
          <a:ln w="0">
            <a:noFill/>
          </a:ln>
        </p:spPr>
      </p:sp>
      <p:sp>
        <p:nvSpPr>
          <p:cNvPr id="6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3D582-D2FB-4B38-A6AF-27B9BB41C3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F0338-536D-409E-93EC-BC61C65353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76" name="PlaceHolder 1"/>
          <p:cNvSpPr>
            <a:spLocks noGrp="1"/>
          </p:cNvSpPr>
          <p:nvPr>
            <p:ph type="sldImg"/>
          </p:nvPr>
        </p:nvSpPr>
        <p:spPr>
          <a:xfrm>
            <a:off x="985680" y="741240"/>
            <a:ext cx="4886640" cy="3665520"/>
          </a:xfrm>
          <a:prstGeom prst="rect">
            <a:avLst/>
          </a:prstGeom>
          <a:ln w="0">
            <a:noFill/>
          </a:ln>
        </p:spPr>
      </p:sp>
      <p:sp>
        <p:nvSpPr>
          <p:cNvPr id="6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68E4A-8CD5-4520-BF59-DA90C1BC61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79" name="PlaceHolder 1"/>
          <p:cNvSpPr>
            <a:spLocks noGrp="1"/>
          </p:cNvSpPr>
          <p:nvPr>
            <p:ph type="sldImg"/>
          </p:nvPr>
        </p:nvSpPr>
        <p:spPr>
          <a:xfrm>
            <a:off x="985680" y="733320"/>
            <a:ext cx="4886640" cy="3665520"/>
          </a:xfrm>
          <a:prstGeom prst="rect">
            <a:avLst/>
          </a:prstGeom>
          <a:ln w="0">
            <a:noFill/>
          </a:ln>
        </p:spPr>
      </p:sp>
      <p:sp>
        <p:nvSpPr>
          <p:cNvPr id="688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1DFCF-29D0-4262-AAA9-430D43F8AF6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A15FC-25BE-4850-8AB2-EC9CAD3E9B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4" name="PlaceHolder 1"/>
          <p:cNvSpPr>
            <a:spLocks noGrp="1"/>
          </p:cNvSpPr>
          <p:nvPr>
            <p:ph type="sldImg"/>
          </p:nvPr>
        </p:nvSpPr>
        <p:spPr>
          <a:xfrm>
            <a:off x="985680" y="741240"/>
            <a:ext cx="4886640" cy="3665520"/>
          </a:xfrm>
          <a:prstGeom prst="rect">
            <a:avLst/>
          </a:prstGeom>
          <a:ln w="0">
            <a:noFill/>
          </a:ln>
        </p:spPr>
      </p:sp>
      <p:sp>
        <p:nvSpPr>
          <p:cNvPr id="6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1BDE6-1332-44CB-9D12-E9584BDBC9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16FA9-3E9A-4BFA-B141-386540FAFE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8" name="PlaceHolder 1"/>
          <p:cNvSpPr>
            <a:spLocks noGrp="1"/>
          </p:cNvSpPr>
          <p:nvPr>
            <p:ph type="sldImg"/>
          </p:nvPr>
        </p:nvSpPr>
        <p:spPr>
          <a:xfrm>
            <a:off x="985680" y="741240"/>
            <a:ext cx="4886640" cy="3665520"/>
          </a:xfrm>
          <a:prstGeom prst="rect">
            <a:avLst/>
          </a:prstGeom>
          <a:ln w="0">
            <a:noFill/>
          </a:ln>
        </p:spPr>
      </p:sp>
      <p:sp>
        <p:nvSpPr>
          <p:cNvPr id="6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986DB-1C28-4469-A4F4-7F760E8F7B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5FE07-6060-43D8-9177-D24231E4E13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2" name="PlaceHolder 1"/>
          <p:cNvSpPr>
            <a:spLocks noGrp="1"/>
          </p:cNvSpPr>
          <p:nvPr>
            <p:ph type="sldImg"/>
          </p:nvPr>
        </p:nvSpPr>
        <p:spPr>
          <a:xfrm>
            <a:off x="985680" y="741240"/>
            <a:ext cx="4886640" cy="3665520"/>
          </a:xfrm>
          <a:prstGeom prst="rect">
            <a:avLst/>
          </a:prstGeom>
          <a:ln w="0">
            <a:noFill/>
          </a:ln>
        </p:spPr>
      </p:sp>
      <p:sp>
        <p:nvSpPr>
          <p:cNvPr id="6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663E8-68FF-4A51-996E-CFA5B76972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842EE-E058-4B8D-8464-5F73E2664FA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6" name="PlaceHolder 1"/>
          <p:cNvSpPr>
            <a:spLocks noGrp="1"/>
          </p:cNvSpPr>
          <p:nvPr>
            <p:ph type="sldImg"/>
          </p:nvPr>
        </p:nvSpPr>
        <p:spPr>
          <a:xfrm>
            <a:off x="985680" y="741240"/>
            <a:ext cx="4886640" cy="3665520"/>
          </a:xfrm>
          <a:prstGeom prst="rect">
            <a:avLst/>
          </a:prstGeom>
          <a:ln w="0">
            <a:noFill/>
          </a:ln>
        </p:spPr>
      </p:sp>
      <p:sp>
        <p:nvSpPr>
          <p:cNvPr id="6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BB1F3-E459-4B25-81B0-24295957DE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11078-4561-4ECE-A27A-7FC025A83E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0" name="PlaceHolder 1"/>
          <p:cNvSpPr>
            <a:spLocks noGrp="1"/>
          </p:cNvSpPr>
          <p:nvPr>
            <p:ph type="sldImg"/>
          </p:nvPr>
        </p:nvSpPr>
        <p:spPr>
          <a:xfrm>
            <a:off x="985680" y="741240"/>
            <a:ext cx="4886640" cy="3665520"/>
          </a:xfrm>
          <a:prstGeom prst="rect">
            <a:avLst/>
          </a:prstGeom>
          <a:ln w="0">
            <a:noFill/>
          </a:ln>
        </p:spPr>
      </p:sp>
      <p:sp>
        <p:nvSpPr>
          <p:cNvPr id="6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03E4D-964A-41AD-98F4-A536F93CD7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03AD0-C4BF-4865-ABC1-5674AD4333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4" name="PlaceHolder 1"/>
          <p:cNvSpPr>
            <a:spLocks noGrp="1"/>
          </p:cNvSpPr>
          <p:nvPr>
            <p:ph type="sldImg"/>
          </p:nvPr>
        </p:nvSpPr>
        <p:spPr>
          <a:xfrm>
            <a:off x="985680" y="741240"/>
            <a:ext cx="4886640" cy="3665520"/>
          </a:xfrm>
          <a:prstGeom prst="rect">
            <a:avLst/>
          </a:prstGeom>
          <a:ln w="0">
            <a:noFill/>
          </a:ln>
        </p:spPr>
      </p:sp>
      <p:sp>
        <p:nvSpPr>
          <p:cNvPr id="6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5AD0A-55CB-4AF4-AA56-35EF09EA2B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EF5E002-2963-465B-B281-87481B7390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583E550-630F-468A-B240-346F02AEECF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EFDBBA61-7D51-46C7-A6BA-42765C3AB805}"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6FA1727C-38DB-494C-A32D-79C754BEB030}"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4EC763E6-CD1F-4806-8AD7-963FE0CED117}"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1F22625D-92F8-4E31-9133-0BF723A8B78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5B53D748-B09B-4134-8417-AAC21E3D7D34}"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BE1F334-7610-402B-9B5C-9D51E166D94A}"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40146ADC-69D2-4235-B32E-28D4497A3950}"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85EF6A3A-FF48-433A-A108-489613C7DAC7}"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F903DF2F-7690-4407-A5A8-BD50FABF157A}"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8901A7B-3B1D-4E92-B472-707F3ABCE3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E957471-8DCF-4B07-B674-C9FB84C21DE5}"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0F217A51-F487-4145-824D-F8F6BAFB2BC9}"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E9026261-CC3F-40D9-9EDC-C90D9CECEA7D}"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BE82E8A8-6DC9-4C3D-97C4-79491DEE0D12}"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F0C2FBBF-BA9C-4B19-9508-0E55EADEA091}"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CA83C5B2-75A8-430A-81A1-1099C4642096}"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3F95F17-BCE7-44C6-86F3-CA4FD20E55D5}"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E0FB9F54-1A48-4B3E-B77A-B6EEFB6BC7C6}"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47FB1C6-A5F3-4BB9-BEF9-F3D234A52217}"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7F173FA0-2326-4F49-9D7B-C3C90A7C9F24}"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ED401E1E-DDD1-4455-AB82-6F26A0EF30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C2B9E9A-F817-49D3-9B32-4C82C5AD1A88}"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948F1579-A4C6-4CE8-AC7D-3C5B6C5FB57A}"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CB31325A-911C-4FCE-BAD1-C24E1120AD44}"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1413FA4-6C67-407F-B086-F0980F9ED00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3F252B0E-4888-4590-9A9E-9EC939AD8901}"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8DD1D924-E46C-4EEA-9604-CF30C57A2A89}"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7E08BFD8-602D-4E09-B606-AA158E405340}"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9FCE0662-16D0-44F5-983A-6D9AE32E806C}"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9BAC0E52-6623-4C66-83B4-3ED442D26C98}"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01F9FEA-E26C-4634-96C7-EBBFD024A5EF}"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2312924-8CB9-4C29-A363-C8F79971B2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E53E04B-F77A-48C4-9E6A-30918B6B2FCD}"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9141001D-DE12-4563-879E-EE7AB9162A41}"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AF0757F3-15F7-4F05-AA68-935B6BE04FE0}"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28C0EBDC-9597-48A9-9B10-C3754B5EAFFC}"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9E33E31-7F5B-49B3-96CE-15100D27AA6C}"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0E6B2E11-E4B3-4358-A246-4F3C6D365A8F}"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2789210-91B3-4480-9B47-B8EB96C56B0F}"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9B243CFD-BC80-4E36-AF6E-5325A1759742}"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97297A9D-3E29-40AD-A75F-C64052A778BA}"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568C945F-087E-4726-8BA5-4A76F2D96A35}"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73155F4-5950-4A98-849F-A2904FC2FE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A06F1B4-2E36-4DC5-89AC-8633FEF83523}"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5002E6F-7CFB-48AC-A595-D0C1A5B8F647}"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D508DC3C-D752-457D-B6DF-56F45F1F8FB3}"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E560F0E7-46F0-4DC8-84FD-C4D210CFDEC2}"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FB995FB0-3CE1-4525-8336-CAD5F418DA2C}"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4DF97920-E6BD-4DA9-AAD6-13C7870E4BE8}"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ABDEF366-BC18-4BDF-B045-E419B2AF7441}"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6B548356-B27C-47CA-8A68-02BCCABBEA2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E862F22C-9BE3-4EF1-BAB3-85043A93C8A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436596CA-1AE4-4128-8721-61F2CE01C5C2}"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7DD91661-7B5F-4101-84DA-00DE8E3133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E546B84-A8FB-46BB-92F9-604B5F9258A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C4837DEA-7FF4-4E8A-B8B6-E0258145C7CF}"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B8F525BF-1FFD-488A-BA08-4936B5239457}"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65A063B2-7DBE-412C-9E41-D26238376C33}"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23798BB-BB31-442B-A682-6F6F27C9FBCE}"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F0BC7BE7-EA19-4429-8BB2-C9ED66396DA4}"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311EDFFE-9937-4F53-A060-E5D5112629A1}"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2E2420A4-1643-4999-9946-9B50DC19F42F}"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98E08BA6-C554-442D-A94A-84EED1C96EC8}"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C1A9869B-35C1-40E2-A794-865C40637CCE}"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11C2A70A-37A4-485E-A230-E66EF20B59F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8669693-8A08-4667-A040-41DA21372060}"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D97C70A0-6E69-476B-93A7-A0ACD429DE1F}"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ED2D5267-F54C-4CA4-990B-DDED2CB91505}"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EB5230DC-DABD-43AF-823A-1C79C8FB8180}"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91C40200-A62E-4293-AA19-472E782A37A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2C966F0A-34B5-4294-950E-1D3728C2F95B}"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A2A57A8-2510-459D-B07F-14BEABDC6478}"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88F2A68-DB51-450E-ABBD-D19BC51AB55B}"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8CAEE65C-5A79-444C-875F-465EAAF39F48}"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0642221E-819F-46A0-9824-BA5A4D4F52C1}"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B1953C79-480E-48DF-8B24-4000C164625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64C83DA-A070-4336-AB22-B0E21EB6B3C7}"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EF245793-CE00-402D-8F89-3D732795C3D1}"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94F48BE8-25CC-4852-95BC-ACA35E98663E}"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C43C015F-9E5C-499F-9D38-78EB28549DBF}"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BBC7E40E-72C5-4927-B800-D4E2CB5AF21B}"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F4908D76-148A-4E18-B0E0-7A00E8F2C151}"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D33C4CF2-452E-469B-B014-0F786CD7F86A}"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D56BECB-F951-43F7-9F35-A6D99628CBAE}"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D13A209B-CA75-432F-B265-7EFD371A2651}"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B5CACD33-BA12-464F-9281-47779BCA2D11}"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EB121AAC-5D1A-478C-9A32-19B5BF44D2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5F99815-C71E-4581-A344-18DED97CA9C1}"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2B519330-A93D-465E-B653-2CC40995F0F4}"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719A4BAA-FAC1-4ECC-9D3E-F0FE214CAD37}"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7E101F92-7D25-45AC-BDB3-0EBEB37BAC01}"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A73EFC66-1FA0-4F58-892B-A2A55C9EEA2B}"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6E6F38C2-8AE2-466E-A838-A185993B5EF5}"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985CA4E9-00C3-4E91-BD71-98C9091EA681}"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D3BE3E91-6642-4387-84D5-6E6AA74D7E96}"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95C5211-4D9C-4797-98E4-FE6749344338}"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5D72FD2-2387-49E5-824D-03831BF96129}"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438E920-5769-4E72-AB12-F7649D1D95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48E669-E556-4796-8A88-CE28A0797676}"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CD87F236-2C5D-49DF-9377-333C9F361998}"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2C32F403-BFA0-480A-BF61-9683C123743A}"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0A436776-CD7D-42A1-ABC8-AEFA03A57392}"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074670F4-87B8-495B-AE20-A459E9F1AA0C}"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3A2DA948-6B8A-4D54-9EF6-AE6BC22D60B6}"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237275A0-D186-4E28-8B14-3F316E7DFAA0}"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5FA1CBB9-EA44-4A2B-81A2-C223DFBBE5BD}"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B2DD8C13-DE7B-4B60-8092-5978F38828D0}"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9EE87A6B-4E01-4C80-B34A-4D6B7A3AA927}"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4DE601A-F9DC-4634-AAC1-297C72A000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0F60585-31D5-4657-9409-0C9CF853435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894C3A8-01EF-402A-959C-CE488617220C}"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672DEDB-5479-4273-9CD5-537A0C2107BF}"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AAA1D2D-0CDD-47C8-A538-FFE6C28EA534}"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58B1641B-8A4C-4D8F-92F7-EF9B1FA080E3}"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7AE0A6A9-EF55-47D9-ADAB-84B48EFA5BE2}"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9756AC52-EDBF-4F6C-868F-525E5D21D3BD}"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A256F592-F5BB-4044-98FB-9785F6B9FC5E}"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D345717-3D44-4D61-B644-7E1C3CB89996}"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DC2BFCFB-A250-4233-80C3-CD8725923434}"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239F2B61-C1D6-4DCC-9422-753E15F5512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82477E9F-76F4-4A05-BEF7-A4B37430BE1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7C65CAF-7880-4C41-9273-D5DF91F4850F}"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73C82F8B-E2F9-4F15-B7F0-2C04210EC3C9}"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ECF4EB7-4AF7-4E5F-A14A-221F4EAA733C}"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2DE461AC-0A0C-4699-9526-8F7027322F3F}"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A8180066-16ED-4D92-8E0E-DC493466711C}"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57BD58E-0793-493A-9A5B-D2FF59262A4E}"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113A1626-5171-4C62-8E8A-01343DA9E875}"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3D5D97D1-CD35-44AE-8F84-44F6E43045C9}"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68D67C84-E278-4669-AC56-D8DF81DD6BAC}"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4998D1DC-31C8-4A9E-B0AB-EF9A037A695E}"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F9E36B2E-2EC7-4D91-8113-B3219C223D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54232ED-0D04-4915-93D5-3D94B791F406}"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02D4AF82-FA0B-4D99-9A25-A0AC45633C73}"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2133DB91-A86A-4F7F-9E06-2F4284534F80}"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1E12027A-089E-4CDE-9A6C-F3C0E29A0AC9}"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22BF1FE7-A0B9-4A5B-8912-8A9D8C3BB03F}"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7029CB9D-9704-40CF-920D-C3C18C43603D}"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6F0511B9-219E-41C1-A54A-1DD44CE10884}"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932A1FD-5599-4C1A-A600-58FBA08E6128}"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64262749-BDAD-43BA-B861-592B455CBBB8}"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1F115765-87DE-45A0-8E8A-2D826ADC24EC}"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9BBCB486-B10E-49EF-B791-78795042B19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CCCED03-D081-4582-8862-AD4F5C1C6C51}"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03E11A0-62D3-4418-B61E-C6F4741F4BA1}"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FE661B4-41C5-488F-A50C-6950949BC2FF}"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0A0A1826-87FA-4FA6-A1CC-C92711A84D24}"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D3E77CB7-4E99-4866-B6CC-9225F18A2CFA}"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DDDBF837-00F7-4B73-9EA4-00E93DC25B03}"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972454E7-52AD-48D8-BD8C-71417C41C440}"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8832A7C3-B449-46E5-870D-7E56D86C75B5}"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5BD57E7-5D45-4CAC-8A45-5BE946F4CE39}"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91FEAB8B-37C8-441F-A5EA-776DECD2BAEB}"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BBA7AAD1-C107-41C0-98E1-BA7BAF5441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9ACF12C-EC95-453D-BC87-CAA54371D059}"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A66F4C25-5DD6-42FF-8B83-1D60E01BF1AA}"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638C4021-7EAD-4A6B-A58C-1BC2DFC1E711}"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15BF530A-67F7-48B0-AE0C-522C6A958B97}"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67D12129-47AC-4F5D-9CFD-BF4223BF6F02}"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F9C6188-06D0-40C2-B9A7-54D3AF7922A1}"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CD759649-056C-4DAA-8A68-228D89F6D788}"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FF683951-71A6-4418-AB5E-CCA8DA0A7B56}"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455E776-AEE1-4A5C-B603-9C499A00CAE6}"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F9BC534-E7D6-4646-B76C-1D19547E0FC6}"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8704CBAA-4E96-49DC-B3D5-766671E619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991E87F-78F9-47BB-A2D7-392B80977A57}"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60533108-E1A9-4846-A59E-6B8CD2836B31}"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CFCE1FC7-DFA9-479B-A81A-8E875FE4B0A6}"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9F5C5776-0BF1-4C94-8393-FC9BAA19D873}"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134AD18B-8F59-4F22-B9E7-CA86C0B3613D}"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FFD50881-8EB0-472F-9539-2B76FCFBB4FE}"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3B665A6-F9C6-4FBA-8150-937DCF9EF41D}"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B4C40C6-5F70-49B4-86FB-169287618910}"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33F90EBC-9C06-41ED-9C5D-6EFE06B7E510}"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D6ABBB17-F207-4F8B-A2E0-2F96298A0590}"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A0670E23-6722-4BA5-9BDE-8234C51A86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411CF97-19EE-44A4-B9B9-D7B6D755D619}"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5E8871BD-33AE-421E-8103-52F2A02A1006}"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AD80BF6D-082C-4450-974C-19211C800C07}"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4ABF61B-F229-4DF1-9F7E-C1EC2AF41B56}"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A22E52DC-8820-4025-A06B-2B725B08C9BB}"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53F3AECD-B4D2-4A64-BE08-60E6883539FB}"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69A824FC-636C-418E-84AE-45677F15466F}"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2259B11C-91E8-40CA-B723-C6B081D8BF9E}"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8B29DA95-850C-447E-8489-733CA2761440}"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7128689E-44CE-4C90-8CD3-F4D047CE4A09}"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57757D0B-C349-4CAA-A495-56D0A6A456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D859DFD-0855-48C9-AA86-F28FC23D47A1}"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F4D5A4FD-8B49-452A-A47C-81ED7C9274F1}"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8495414-6B13-41C4-8458-04DB9CDA1392}"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FAEEDBD-4617-429D-ADC6-1919491F6238}"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793B9F19-EDEB-4C00-A949-4BD3860030CD}"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888FF2C9-3AB7-4FE8-BF52-9858BD52E1AC}"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7F18D6A5-38DD-4CF9-9886-0CD19CB3EF54}"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9E9AC330-BD8B-4CBC-9F93-F914EA4A3716}"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AA2C14AD-E955-49BD-9624-37B15B4AA19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B5937C2E-506C-441A-94CE-D01B69EB501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D595E774-B57A-45BF-B32F-FA79C56F84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5F47823-C211-46CC-A101-7C0D90DC9306}"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EC093214-CA2E-410C-8BBC-242F143CF58A}"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9F6FE3A3-345E-4A7B-9178-B116D0C7F078}"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69C98EEC-269E-4116-A537-FF00A6433C20}"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4475580-7BB7-48C9-BAB7-200702859390}"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EFE37FDF-06D0-44A4-B88D-21ABBD0EBF54}"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FA837DFD-D6AB-48B5-9143-E22FB374B778}"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10A6B6A5-630D-451E-A305-4DCF190EDB31}"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437D5EF0-9AC4-49D9-ACDE-6A83596D19DC}"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17CC78AA-2BB8-451F-A889-B89F4852F38A}"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716352A5-0F2C-4291-925A-2D59E4AC4B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B0BF23F-F554-4727-9EBB-AC35AD71DCF0}"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577165CF-8D8D-4EDB-8C57-C52E02A1EE03}"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8E32DB7-CED5-4652-A694-B50FA92BDC5C}"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30BC75A-4D05-49F6-BAB5-B14E2213D29F}"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EA58E595-70B0-4A2F-BAA8-71AFDDD1D1B4}"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27EB2457-35DA-4657-8654-0CC23B3DC60B}"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734F13F7-B80F-44E1-93C1-FEEEE61D06D1}"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F11DAA0A-9779-4D98-A87B-904064019145}"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23EA1B6D-B7BD-42FB-A371-B735BF199A9B}"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4D252D7-1408-4584-B321-152AB413985C}"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5F1D83FA-8DC1-4F44-8F82-97953C722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66CAA73-CEDE-45B9-B706-5000FCF6B8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DB61513-1EFB-44ED-A03A-3D2E2437F374}"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A67561AE-A44F-40DD-94E3-39F716E0A4BE}"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CA29FCBE-6645-47AC-9391-2057DF07076B}"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57DACF0D-1B0C-4CC2-A867-BCBEE178033D}"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6908FAE-B033-40EF-B75A-DA2FC19EE258}"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4216A512-3F74-4143-B084-ECC5329CF595}"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93E1304-5862-4F62-83DD-08A9F6C97A2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857641C0-0E0C-4161-B2BF-5AB7E4984DC7}"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E8B05E4-3087-4AAF-9137-11C35643EBDE}"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5BFE1542-4807-4C88-899F-C3330588F93F}"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16168B0D-EE16-42AA-A9EB-E2656FD038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B435707-51CE-404E-BBB6-BE7BB74D0A11}"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1DB601A2-69B8-4356-9491-6BCADEA90CF3}"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9878BF12-C1C2-4D2B-9A93-62AD35532EF3}"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989AC420-F83D-41BF-B383-3540CDA3E876}"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FFADACC5-70C3-4485-B718-1FD31C61A0D8}"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10D7B19C-3475-4FF2-8CAD-3513EEF7A7A5}"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91316FC2-747F-42C8-9D2F-677C360C1C71}"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65CDCEE2-0B2F-42B2-A2E1-22D4E896ADEF}"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1DA9D534-8A2E-45CC-BA76-2BF83A45BA8A}"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832776CF-FAA5-423B-94F7-1D97A2D81591}"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EF1F5D2-0076-40AE-8C97-487CD46A3C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FD9DB48-EA54-4ADE-A09E-70A3C11A8331}"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853E63AC-5A84-410B-AA15-6E9AC29C841C}"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B58B0E4-889A-49A9-8037-3032A88611BC}"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5CA588B9-E4BD-4985-B82C-511A2B1C68EA}"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1C102F75-57EF-405C-B724-5CEA17AB4825}"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77F49A4B-19F0-462E-90BA-718513A26BAF}"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8416A123-44A9-43B1-BBF1-28A9DC9FED5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CD45DC7B-8388-45D7-9C71-8A7113322AC1}"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7DF051E0-573C-49A9-9A04-A5F1AD4B872D}"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053C4A62-EDE7-453B-898C-06830FA03E67}"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BCA05A35-6451-4896-864D-23689CF0DF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33A76FE-CC93-466D-9CC6-A870D146BD97}"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A4419C55-A732-4747-AEC7-E9FEA19FC990}"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FB5CEE9-06A0-429D-98CA-7B36F5A71165}"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86E0E87E-A447-40DB-961A-035811A0D59A}"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3BB3A17E-24C4-493B-9B3F-EA105D039F2E}"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822AA916-DF37-40A5-85FD-83CC31EE391C}"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3FBEBC5C-A69A-4FAF-B0B3-8A3B200C8CAA}"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3F177105-9065-4F8A-9523-28C310540C8B}"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FF5CEB44-C335-47A4-9E6F-389D7A9C98DF}"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96F6651-FF86-4C5A-8FD3-5B903DDB3F0A}"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4DA1DF1A-BDCB-4372-9C66-176022898E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56B7906-86EC-4776-BC96-767C7DA6FA11}"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507A62FB-97BE-4DFF-96A1-0E94491A115D}"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28CED3CD-2F92-4DB1-90B1-61AC7AC40F38}"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E4DC6EBC-B29E-43A4-8641-2CC9FBD9271F}"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F4B1A8D-5CDD-4218-AF9E-7D31D09C4711}"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FF6FD6C1-EF67-4ACA-A400-D8B6F134D057}"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0927AAD-BA81-432A-AA33-4C127C5BC07C}"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294217AF-D73C-4E13-A51D-BD80B665F774}"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7821744A-2001-4795-B7A2-DE19AFDCDC20}"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EEE18203-9558-49DE-AC86-35DA29D1B90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7A55A763-B30C-493C-92A1-E4F9FF9772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5D675A5-C5FE-4C02-8109-721940CBC0D0}"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28D2070-D384-42B1-978C-48FC6B905C48}"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640F035A-6CC4-440B-828F-4A36ABD6AE30}"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99E236E9-A2B6-48DE-9865-50AD22646DBB}"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A8BA9EAD-4256-49BF-BA85-94154FACCFD5}"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FD985E5C-E35F-4E10-AC44-154D77D81FEC}"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81F86F8-272C-4616-AC5B-91266186CF03}"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44ED3A36-73DB-41B3-89ED-F35661C018C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11E9A80-692E-4B3C-B557-3588BFAB35B6}"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BCDD61BA-9737-429C-9F71-8355685B9270}"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58DD0918-33DE-4FE6-B422-0A21DCD7ADD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4B3569A-B422-4938-A1CF-9646A503209E}"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6E7E58DC-74F4-43C0-9F2B-3892C4C24FFB}"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84E267FB-74D7-4E08-8BAC-26D32A31BC65}"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437350AE-DC65-4517-8109-9497A888A595}"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4685CE80-2185-4790-B297-0F5D71A9D1D8}"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5ECC21DF-96A3-4BD7-BA50-5B80FB4FEA3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FF5B4465-309B-4C98-ACA8-6994EF3CEE4B}"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44417B76-2E4E-4EE3-9162-40269AF6629A}"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CE4B279C-C636-4A81-84FA-F784C69F94DE}"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35D9C4E-EB98-413A-AF49-E8CD0C3BB888}"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A76DBB1-C4E3-4648-A236-F66B362D44D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B49375E-6764-4269-BBDA-ABFC7FC626C2}"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D1C386FB-BB61-4C16-A6B0-344C57CE4B26}"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D2987227-574C-4563-95FF-9D891A841B94}"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71043292-81D2-4E2A-B58E-4F6CB87CA845}"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0565C035-08E1-4175-BEB9-50C1836955C0}"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B026A589-0395-4CD2-A975-6E341235D33A}"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462779D-7E47-432F-96F8-16DE75ACF692}"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8856171E-6F85-4F38-96F6-B81FE1A4E1AC}"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FFC74719-3FBE-4911-9FFD-F0A86C524D48}"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66837B3D-A212-4BDB-A998-A6EE38F8D859}"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D3B601FA-4069-4677-80CC-9A8178416E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171F2B0-91E9-4B84-93A0-C5EE169AA8AA}"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D4225F2-D9A0-4D3E-B43D-EE21452E711A}"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2378D4C6-7C40-4B7D-A4CD-7463EDB16F92}"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66B2ECA9-E688-4A1D-BF0D-2E26D8F8CE94}"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F710A6BA-6C2D-4C89-8C1D-33F2612A3D3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BC8D705A-F344-49B3-9EBF-6305A152BAB1}"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183D687A-2A19-47BD-9C2D-E7AE512BA9A8}"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5847F425-E167-46B4-9182-784D2C4D6D0D}"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4C4469A-1757-4546-8FD6-BCE39193627F}"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77025FBD-BB12-46E0-B142-FB522FE4A6B7}"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02C450D4-CCBA-4A7D-AF62-87E04AD4B0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705E258-6CAC-4537-842C-3AC6618ABF0A}"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F874DE40-22C9-4F3A-8155-3A1F96AFB188}"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A2E7E0B-A64B-4C2F-99F7-272CB6E17060}"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DA915B2-3859-4AB6-8797-ACAEF9A49479}"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0887D8E-4C78-4C7D-91C6-24FCA5CBAE7F}"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DB213E5-BC92-4ED2-BB25-03E2DA76C8D1}"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0C3B806E-74F9-430F-B299-88845FDF0291}"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54EEC5C8-94C8-4372-A16C-4B955BFD57BF}"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0F6279E1-AA7E-40CC-8760-3B0E2AF2471E}"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940EE3A-037D-4B39-B9DA-6C262AF8FC14}"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ADCDBB7D-3026-4EC8-8122-734905CFE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048B54-6A19-4C4A-A168-4B947385F0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A0289C5-18F7-4D35-9324-E86A78C920D9}"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27F5F06B-0B21-4FFE-80C1-468BBFA805C4}"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74E15671-B412-4125-861C-EE6D62AD75E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D5E95201-75AD-4E02-ADFD-BEC80CCE2EDC}"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5E9719F-71F8-4918-9A97-4086818CEE9D}"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3B42AAE-E5CE-4331-9990-339A1EA3AD81}"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48FD330-8084-4648-805E-E336FCF06B1F}"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ACF2068-A199-4820-A811-6C1568294759}"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3597C30C-275B-4B96-A286-F58E4C667640}"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043A9B0B-DEB1-4704-AFA4-D98436720CE0}"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B61DB348-3006-4C7B-9B64-7B9C3FFCFF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E38D86C2-279A-43FA-BB2F-4FE6466C4335}"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6FCDA229-F4F2-4338-BA1B-06F5C6D3D159}"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43CBF81F-4625-47EA-9383-871813FEB6B0}"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35A7A2A4-9592-4394-9F29-FC6723A3D442}"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CA3FF1BF-F608-4F9B-9AA9-AD595B760C08}"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6C2C98C3-92FE-4FE4-BB54-4A5796C2111A}"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D4C3A513-C91B-4749-89DE-ABA7CB2DB2FD}"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B1FA289D-7443-4E78-B4DD-A1F054DD919B}"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EA9703B-DF58-4028-95C0-605CF08FCB69}"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E3409BB9-3165-460C-8D89-1EFDC05BB19C}"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F1AECC6F-4EE2-4950-8406-482FBA3338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E4EC109-57C3-4828-8904-CB916A676109}"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4D035CBC-3A28-409A-A745-3025353997A5}"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750C5766-C15C-4225-96D0-CF56C238AC6E}"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B7BC0F74-7D0D-4B0D-A228-A1B32A0E63B4}"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0BBF8EA3-7241-4E8C-BD66-6459CDDB3A9F}"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5CEC0B91-8ABE-4BD6-8144-A79FA60BE293}"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54643504-5DE8-4B04-8D40-D559CE5B2755}"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9921D949-BC87-4353-8CAF-8D53E0620199}"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ACF4287-64AC-4AD5-B839-C7F6FE7A4A00}"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B79218B-F03A-4C05-B8BD-0108A2E0F04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B04797C1-0C6B-4301-AEFE-6295B445B2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F6AEE30-646C-4CB6-841A-F220DD3AA276}"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068F8BC0-F61B-47C1-850A-C39C4FAC5B08}"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B6E15FE6-DBC2-493C-9803-F97BD321F638}"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206FE9F1-38BD-44BD-8F91-E1FD654E5169}"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7801E03C-B17F-43DD-8B3C-B05BB6169A9D}"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1CA9921E-DC1D-49E9-AB75-EAE567EA5125}"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95368A45-0D03-40D5-871B-E9C490E401EC}"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0302BB9F-D961-4D4C-ADA3-55E88BB2F8CD}"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E8AEA7EB-1A0D-4481-BE84-167EE0F87DB7}"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5C752F7D-813E-4915-98D3-AB72ABDAEB8C}"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7411EEA1-729C-494D-BC9E-9594E61DDC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CD3A008-4A80-4F92-B9DA-CC43B4888F57}"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D9119C1E-3F86-44B7-98D6-45061FE1E4DD}"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0BF7701-55CC-4B9F-8557-CD62A81B3598}"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5E09200D-3D1F-4B9D-BAFB-064D501A297F}"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AC53ED89-AFA3-476F-9ABC-740352989E84}"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F3DD9B7C-487B-48E2-A44F-01BB70FE2408}"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3FAAF9D6-4DBC-485D-9653-FA0D4245A7C1}"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AC3EEA2B-F6CE-4904-BFB0-C48F618DEE47}"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3FCB4B5B-F89D-4BDE-9B89-1F33874F08AC}"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97B7DD44-EBF4-4C37-9A25-1EF4102CFAE0}"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3C63AC3B-8605-4F0B-8B36-BBB3CB3B6F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9B0552D-AE67-4ED9-B374-F63CAA664058}"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541E5521-B5FE-40C9-8886-96C648920DF3}"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5496AA3A-60E5-4C36-BC86-F2ECDDC64BE8}"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30FF919-4A06-4955-9B89-B9A94D58135B}"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8F585F6B-E366-4FF0-AD27-F2321B9BDBEC}"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61D631EB-091F-4D80-8146-1EE65DECA50A}"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CFEAAE3A-EC2C-4257-90E2-EA8F1584D4F7}"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5C0EC936-7E30-4519-84BC-E856521FD9F9}"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6B1BEA9A-CCF1-4A57-BCD9-03A378DCFB4A}"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55972516-A53C-4E07-8F00-4D3E4AF09D89}"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3F6B14E4-F157-45A3-ADEE-3EA6D3750B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C8B980B-9DF6-4787-B699-C0B4AAFDD269}"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CEAD8AB0-833E-4B92-8001-97B5708A1346}"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98E4C68E-7726-4D77-865C-089A609C8BC7}"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8A34DD64-8263-4316-A46A-A7A1C3DEB2B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273ECC9-2A36-445D-9767-AD0A01249A2C}"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A5BA12A-6C41-42FD-8C85-6B817FE7F405}"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5E905117-6ED3-41C5-951F-CFD82362053B}"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29E04674-158F-43BC-8D94-E953353C5201}"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DB45B362-D0D9-4786-AB57-72D15FD0C1A6}"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B7149CB0-0E18-416E-8677-EC9555661D7C}"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83299A5D-EB18-41B2-A6F8-C5D38C26DE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89A0AC8-D3F0-4023-91FD-EAC413AB9B31}"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E654D558-4A2C-46F0-A1CA-65271D7F1F17}"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73AACCAA-28AA-48DF-BFE9-4C6C7ADE5433}"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C4C26753-72C1-4B64-82B2-5FB78FF16B9E}"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32738F16-80BF-41EA-8F03-0E6FBBAFB756}"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88C2F97F-4E42-4CCD-8E87-6950E55AECF2}"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6394F8C-1314-439F-BB7C-DF94E14C09AF}"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1C3DEEE-2B12-49F6-AA99-A098450ED22F}"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D15A6698-62F5-46B0-B19E-79D103FEA647}"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E62FBE21-D93D-4BD4-B723-03613B72D562}"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D52E8704-DD22-4660-A589-FB1DE0AA33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5C5941E-1536-4575-9446-24EF211471EB}"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2E5C4693-A184-4D93-A361-956E078BF035}"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99DD0A7C-97B1-495A-A8EA-BFAB378B143D}"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A9565482-94E2-4A81-B2EF-8AAC6FA6A874}"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53EFE702-2D2C-4E86-AB88-843AA816E64C}"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216AF0CF-2ACA-4A90-8AB1-960496F8D1C9}"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8DD18264-8A81-45D8-BC82-273C7C5BB4A3}"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67BA2440-4A51-4CC4-9456-D105D1E7B6BB}"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DEEDE89-F9FC-4DFD-A4B8-55C495BB76EB}"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02985C3-AA55-42D9-97D9-F692D88669F8}"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7D6D36A8-8545-458D-AEA6-D4499F4D21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FA9463E-A688-4954-9B2D-1F5897C5A94F}"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DBD341F6-0F22-4ED0-B4C8-12B9BFBE6E28}"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97B37C59-44E4-4A02-AB44-982CE17C1F4C}"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075FA4C1-B50D-4A18-B630-D51B7970C808}"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CA857E21-5221-423F-BB0D-5026A23EF661}"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38E70DD-5A89-40C3-B499-7041149277F8}"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0EB0068A-01FC-4A48-82B4-83FDD01C22C3}"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B41C9EB5-38FB-40D0-85FF-5A06A777DD84}"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67FBA75B-4EC8-45BC-A508-C0C732C1DFD0}"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02DD5C77-4420-4DB6-BFDF-5F82E8E0F431}"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6862D8AC-06D8-4626-A993-69DC23F6DC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20844D-6EFA-4AED-8D36-179A819EA8A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BE43C40-2177-4F1C-92DD-A879C386A557}"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6205750A-AA68-4717-B0BB-3D36DC89C09A}"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6E36FA35-D172-4A1A-B36B-1F718350CE5F}"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BA14A028-5258-45D8-B367-7C1897F688F1}"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D28DBA9F-8DDA-47A6-A9FF-C9C5C074A72F}"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299B12A5-7C05-4BD4-9EA6-8A667A6DAE5F}"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FAB4981F-D057-47D5-BB7E-E3BFECD94B2D}"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7E8CD94-D773-4C5A-89FC-54EC662F4281}"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238885AF-DAB8-4CBA-BCD1-E15AEA62A5DC}"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A1BFC3F9-FAE3-415B-9907-34BE3BE729DB}"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876E2118-B77E-4BBB-A7A3-0C494A3378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9E3829B-DD18-439B-8769-2A2E81C5F2D8}"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CC569605-2D7A-4F6F-8E8F-2A3560907D71}"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51FA3AD4-8FD0-40DE-83DC-E015ECC2FC50}"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3FD74DC-B99A-4BC3-8689-5C340BC35125}"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79C2BE2-8D1F-4E95-9687-33FB495DD209}"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B22191E-237C-448C-8A30-C4118F4B74CB}"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DFC5EDA5-F282-48F6-BD5A-B0595EAFD7A4}"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0DC71FD4-B6A7-43AD-B6F9-CF3C86837C44}"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D46F5A3B-1DA5-4B80-BF58-932832DA1097}"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E456F205-0418-46AC-A5AC-1DCF33BBB101}"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15834E26-4C06-4958-B322-061248E711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1211D62-1674-4362-A38D-0C24102D03F5}"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2CE8152-C5B2-432D-A65F-A5299252614F}"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374665AE-5AAB-4FD1-BFBD-EFE707504E3F}"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47AAB64E-67F3-4B75-BEBD-344372876A21}"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F0E5567A-0FEA-47AF-A40E-54BF8ECD748D}"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21397A86-8B44-4C94-8681-7A3D784BE978}"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A926D64B-71B1-4EE4-8A8A-30ACB5191772}"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2AE43FE2-B0C2-4757-AE75-70126CF8EB88}"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2FA845D8-D9E5-4A7B-883B-F8B2D5FA30BA}"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16C6413B-4DCA-4ECC-B600-25CFE3A34C11}"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9E70AFDC-2D34-4CFF-A434-FDF41CEE40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26EEDB6-E1A8-47A3-8B89-D88B27916A22}"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1EB51C05-2FC6-4F3F-87E5-505AD30A4803}"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6342379D-8BB1-49DC-BF5E-AAA01D96E28E}"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E0B4F9FE-40D9-47B2-B43E-E63F96CDE3D5}"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2BB047F5-0715-4FB8-8340-CC05B8C213D9}"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1DE450AB-7DE2-4DD8-A543-1A43D8E25A8E}"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D3C150E8-1F3B-4598-B559-8294A67A9E42}"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18CC1DFF-E84A-418C-AFE0-212DEF5DF247}"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307085E8-F5C5-420C-B178-411DF358D950}"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C536FD3F-77CD-4C81-926C-826527689E3D}"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AB5EEA94-38D9-4016-8215-95F431BD0F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8A724E9-C2F3-4103-ADEE-65DF5F017790}"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0BCE3152-0C47-4328-974D-D6A0EA6C50CD}"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2453CED8-2C61-4856-8E19-5FA5535AE9D2}"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402138B0-DEDE-4A6B-8015-625D036C24C8}"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24EE12A3-0D23-4141-9636-BDC41FA28A0C}"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94336BD3-3186-4873-B52C-0BF1CA05877D}"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10390190-D497-43DC-A820-265F02FA871A}"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FA8BC8D5-9E39-4AC0-BBEE-003765D0713B}"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76AD9914-F9D5-4EAA-9866-C3CC179D9A0B}"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E48C7E9B-EC8E-422E-ADCE-DF72C484E71F}"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D713974B-3B83-4FA6-96FF-AA1F3E6E10B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F1D538C-4485-4208-AE0B-8EAEE6D6AF4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FC0633CA-F49B-406D-8F7C-6FA2F35BD545}"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C2423259-0771-44E1-AE5B-2621BA9EF67B}"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2187272F-9A5B-4D3B-890B-190948F2CD0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6E71F796-5F69-4EC7-9EF0-4532AB3CF214}"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7857303A-9039-411F-82E3-EED6BE3E1C70}"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F4356A36-E417-468F-8BE0-9A6DA83DCC8E}"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0EE8D7B0-1E12-4CC2-8839-077550AD5A4B}"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999A59CD-D4FB-4EEA-8B28-FB1946A94F9B}"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84BB964E-14A9-464D-AD0E-614B52E88A77}"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2E77496C-1BBA-4709-A4DD-683E0D336F7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288A0B6-E948-428B-BB37-E82AB0657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5DADEFFA-3178-43CF-BF6A-B675BF68783E}"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0DD021DD-36A8-4FD9-BB5E-E3BE2168C764}"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B474AF6C-AE32-4AD2-AB02-017D38D26DF5}"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217BA1C8-E203-4242-AEBD-994FC4822CC7}"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6C7C9C1-C4ED-49A6-9DA7-8673000D7B5C}"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12DA7D38-CB04-4738-9454-FD4FBA68E873}"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7F43FC0D-77E3-4FE4-8704-8B11464ACDB5}"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DF6201E6-8C2B-401C-9DEE-7610A6EC2D98}"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C97EA532-C4AB-4C66-8278-7E5BBF1EA30A}"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C698AC66-D834-4B4B-8963-DA54D47DD5B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5D41202-6BF2-4781-BA80-9B473BC8C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BF9D4695-CDA6-43F0-B7CF-9761C9B237DF}"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0AD041A-93D5-44FF-9BC1-21A69554C2E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2E48F76A-BD79-4A31-B9A9-7240AE93AF0C}"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9204E7E-CDEB-4FA9-8278-D0419C696ADC}"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C69261E2-DEF3-4C99-860F-029337DFE845}"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BF8F3DAE-295A-4C85-B021-7DC1C3494B61}"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C9292EB3-9CB7-40C8-A327-1BCF401513B0}"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C837CA9A-AB96-4EC0-BE91-0A406A0D0CD3}"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9655BAFE-A99A-4014-90B8-4EA237F26E22}"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B4A4E708-71CD-4904-B4D8-21153393FFE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3CD8894-DCC8-4B60-8596-19F8B5195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51263961-CF78-4165-8B35-848E3593AE16}"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AE33ACB8-DE6F-41C1-8F82-056E994E4D88}"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F6DF0971-1A5F-41F2-AFEC-195F492B81CC}"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A75B4A0-B273-4D07-841D-B9C68DCBE1FF}"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4A6D159-73B5-47B9-A53F-2AEE4983C848}"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6F2CC1CD-EC5B-4DDE-9476-FFE2E7343B70}"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BD2DF313-8683-4CCF-B093-841A72AD6012}"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3C3C1933-7123-463D-B62E-1F1868B75921}"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F0979630-477D-4D78-A8C0-565F48AE0939}"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B68C2FA4-C73D-40BD-A07E-DF511827CFE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015106D-37C9-4B2B-BBE5-4A19C45E0D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2F04E22-1C96-4DCD-BCEE-352E7C179FE9}"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D8A20657-922A-487C-8817-8EE30A709EAD}"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AA826A7-7948-47B2-BE94-F788C15DD713}"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21A4903A-916E-4A46-97D4-1C662DD1EF92}"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BDB396AC-CD20-4FBF-85F7-799B0A879384}"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C5A7B8BF-882C-4D3F-9E21-CF4168A9E3FF}"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4A3B3B9F-9234-41F8-BDE9-D24B020F0A0A}"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07BAD78-0AFD-42F1-AE9F-7F5E0D31BD24}"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40175568-D690-4B07-A45E-C14F57B6BBB6}"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934530C9-6CC0-4101-BD3B-6B797A0FA7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02883E4-CE9E-4F73-8051-CF7B1E20AE3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B8604F8-2E72-4D17-A754-1C51AB0978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35A5D095-F9B9-4586-8409-3346DDC9F2FA}"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FFA86785-5739-474B-881B-4108A656FD52}"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9260819C-DE75-4DE5-89CC-488FA3749E1B}"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146C3D02-5857-478E-8E5A-2917E113C51F}"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ADBD79BF-619B-4205-9D41-C24D33A037FB}"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ADB00E50-FBD5-4EE0-A688-A31D8166CC05}"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692AFAE0-9D52-45D9-8FBE-A2295817C2B0}"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E672F26-3C28-415D-8934-39D581A7AD20}"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F89B14D-34A8-44F8-BA7B-8B9ED9C6132D}"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5FC7FB4-04E0-4995-8EBB-2387971F8B8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6E4668A-BC44-4E13-A2CC-634BA9A88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E3C74FA6-4C25-4D97-AD2A-A254D3E26156}"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2A5DACF6-7D68-49BE-A1FA-97D207A657C4}"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91B3F1BD-6D76-48D6-80CD-C9134E7AF3C5}"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0C272117-8588-4527-A40E-91C93ED340ED}"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D1DE68FE-EB0D-442B-945D-11210DC27770}"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CFAC8B71-CA4B-4320-A97E-95B1351501AD}"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E82E5B31-CD5D-41CF-98B6-D2094F0B2022}"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EB1E70C0-0647-4D04-A520-A7A8039E40A3}"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6496BE24-3DC9-4042-B2D2-7AFC87725AF2}"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1BA878EE-DE1A-499B-9CC6-B7FC6F4DCB2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36472B3-FFF6-438A-8254-50D84AD6FE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22A0918-8088-42BC-ABD0-11F6BCC7F1AA}"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2D71FAD-4D6B-403D-A9E8-1263D281E8EF}"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3BCD27F-85FD-4F1F-B425-61A29B0F0E87}"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9FCCB94D-F496-4C53-A9D9-EDD21248AF72}"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5E598ED9-E5ED-46D0-8D0E-6895D12E0964}"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C88AD050-6AEA-4E4D-81E5-275FE44E78CC}"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18078DC0-ACD6-4A8F-9CD6-1431954C6BB7}"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8789AFED-4216-402E-89BC-7E632686BC4B}"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0E28996-6A2F-4183-9E93-E42061CEDE54}"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364DA046-0C9E-461F-BA75-3B97C13865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F510199-7C6F-4E62-AE11-DF66EE20C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2F0DAE3A-FFD8-45AD-AE9B-0EE546B8B142}"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1BD595E0-39E5-4006-80A5-B1621DEA0B9C}"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B79840C-E424-4D04-B0A3-F844B089DB53}"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E28D839-99D0-41CD-B658-0672E3086193}"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5F7C2CC6-A8F3-4D2A-A48C-18BE335EF75F}"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49FA9765-BA32-4810-8E19-FC9CA7BF5AEE}"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2D3674BF-96C6-4553-977B-33477F59F52B}"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8F580F70-5B4B-4E42-84A3-06E19CF8FDBB}"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50CE4868-7811-4C8A-B0B5-0908BFAA8503}"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50E43BC6-C9A7-4932-9D73-FFFFD6E330F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51AD750-BA19-4ADC-9173-DB11D2F76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05ACA67-7013-4A74-925C-09130EF2F95D}"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3B3970FC-58EE-4B76-9C01-7EDD6FC77F82}"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650C6360-4348-4AA9-A880-2B5705A317F1}"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77DF529-34AB-4C61-9E7D-4A7D61C08CC9}"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CFB1CDB-4D5B-4631-9D1E-2FC1A11C19AC}"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80B7DD0-9C3B-4C2F-9556-9E29E992EB96}"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521AF572-D0A2-4FA3-BCA4-5F0CE0B05732}"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250A4D4E-1612-4D61-96D6-B491A4E45DD1}"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40D2D1D0-8C44-410F-8E7C-45357FBB479F}"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7C015668-19A4-41C6-B30F-F203FA78476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CB30EC6-1353-4001-8D0A-3B34990FF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DED2FE4D-E0FF-43E5-8F8F-D484E5720B59}"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7274A87-58A5-4B47-9012-2060FC1404E4}"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812924EA-E809-45F3-8492-A5A51356C95A}"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4EA89F2B-5236-4EE5-AFEA-C22C43EA392D}"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901F5973-2EB9-4366-AE67-76E88941FF9D}"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EBA54D9E-398C-41D6-B3B3-ADAE8F655280}"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296BF7E-5A9C-4C42-B616-594FE765B823}"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EBE10490-DEFE-4C38-9DDE-7C966EB3FF5E}"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D22C9F5D-A352-4092-BD55-42B595862249}"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35E02D5B-65C6-4055-BBB0-966FCF19AEC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DB2F5D4-2504-45D4-BF61-EEC0FB00794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E943C1DA-AC9C-4FDD-B0A3-6AC15F26AD42}"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6A28FBFD-E863-4FFE-9A2F-CEF0B2E5C4AD}"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D24F015F-D192-44D2-9F7F-1446F1869821}"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E5A59358-6554-491A-86CA-4BB5EA2AE295}"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A63158B-C221-4B37-BA04-456D330EB35C}"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34B1EA21-524C-45D0-BA0F-9A764C2BF033}"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D3E65E8C-FAD4-4DBE-878E-8F2A2BB453B1}"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0B9743FA-D9B7-4733-98C4-9B8938DE23BD}"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047AC3F5-2438-423E-96C1-55D447F25EA6}"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37903325-4812-47FE-9DA3-C8159F41F88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E6D3297-69D4-4D28-9EA9-FC50856ED395}"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610CD673-66AD-4954-B6E8-564DADCE79F9}"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231B7A10-A6A0-4573-BE86-BD4AEC52596F}"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4D6020F1-DB00-4D4C-844C-D35910585495}"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90928A82-DF07-45F5-AB88-898E3BD30EED}"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B9305760-B412-45AC-9649-4A7BF005878F}"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DC93D3CE-9119-4481-93A7-70A096820A0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EDE02C19-3DAE-47BF-9171-20D391A5F14B}"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F2ADC871-8257-4AB3-BB75-86FECFE9918D}"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7384C0DC-24FD-4BF7-9D27-60A7B96A1A13}"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F905E6C-0D4E-4843-807D-C40130C789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0507ACB-C64A-4C29-8CB8-AF8995619B89}"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325FFDD-B9C4-4752-BA71-732673E62FFD}"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0B112801-9D55-479D-A664-7F061D02EB01}"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536D83B4-6E08-4C59-AB7C-3D95E4A49570}"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1B7211CB-C436-415C-A601-5CB965735115}"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32A6EC1C-5EA8-4D53-984D-CAD562BC4F0E}"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A8464F48-85BD-4B0B-9729-F7FC224D91AF}"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0B9CAF4E-FFCB-413C-BE79-F393957E4A62}"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05076662-4B30-4629-AF31-9D53AAD1420F}"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133D72E5-42A5-4DB3-8A5D-C7CB2D537AB9}"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88B9C925-648F-4227-A7A8-B03434A070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FD659C6-85BB-4764-938B-BB4CF04441BA}"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E5C74319-33D5-405E-9C2F-1B52940C7FC9}"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640C3692-CDD8-4839-B7FE-F148B07447FA}"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C999EBC4-8E45-4D50-9586-13DE990B667C}"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E06D7743-6B9F-419E-B661-9E528D0FC0EF}"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86BD480F-5470-4C20-9DD3-8173A75D58C2}"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D8A9CD25-E252-496B-BBA8-7E0C82BD8311}"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D2596AED-CF89-41D2-9CC3-03A9853272D5}"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A4DD070B-7EF2-46E0-9A80-DA4800F7AB00}"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4D440690-6824-4A50-8B32-72CEB4F679F9}"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CAA0DD69-99D3-4410-AAE0-4876287EB2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3504133-CC8B-4285-8DF1-DA6A9DBBF27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DCBD3053-820B-4A8B-A8CF-D58A27381B12}"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D1CA63FF-E160-43F0-9627-F5875DCF4712}"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CE5E1B1B-9427-4084-A2E3-767BA59D72FE}"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CFF64532-3669-4E0E-9CB9-7F615677ED89}"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DC32631-0B94-4228-8D6F-A810E8E2D5E6}"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2F6AB2C-7652-4927-8590-0A696A407A8F}"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AB45B478-F263-4BC9-BD89-1755E3B1349A}"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12894C7-1FEF-4DAB-B68A-0A11F730BAD2}"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7419EE4A-7179-4D7C-8BDD-0A11CF24E0E5}"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257352A0-EAF7-4CB4-8916-EDBD28DBB00B}"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092B7768-647F-416A-97D4-579B36B9658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B0F2B0ED-4387-444E-9B52-67CFCACA602B}"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A548C41-58AE-4973-B339-2716D9272E9D}"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639057E2-ADD3-43CC-B31F-E11FD4A6747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D04A7B1A-B390-4B89-A710-41E7DDF133F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E56B8DBA-D044-4528-A3B7-6050805742B8}"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53FAD6F9-3B0B-42D2-A075-94FF120CBEE6}"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6384298-A9F0-49B5-86B5-BABC66FBB501}"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0A2B8AB7-2368-465B-BA45-0E4FDD49B652}"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F87BFD7-7FD3-41B4-A468-00D98EA7A59F}"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9FC96FBC-BB4B-4420-940A-88F310871CF8}"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F0F74BD8-7C72-4454-BBF6-4CA90418A20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CC845F93-60D9-46D9-8483-A39B3E501C4C}"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BA8876E3-4D84-4AF8-B9C8-98444660C45C}"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34AC3C2F-E70F-494B-94D9-FAE12B4C2501}"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71BCFE0A-7784-4E97-A201-2B442D59FFF7}"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AA64110B-1C62-420E-B145-72BA63E94142}"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D969B75-C78A-4CE0-9E7F-EF2B5947C042}"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AA920322-8E0C-4B90-95C4-DCA773C808E1}"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FE24FE49-C27D-4B8F-8DB3-45EE54562378}"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B3EE4DF-3DBE-4BB8-B8F1-4781172A8F97}"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52DA2A5A-8C9B-4A13-9C75-32D3D078801B}"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798D9AE-C924-4380-8FF3-A244A03F1EB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B7D3A2A-A29B-480B-91FE-CB50FE7E9EDD}"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28303AC-C189-4D64-A6ED-E2784B82541E}"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A939B592-5094-4367-823C-8822436332DB}"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D61092FE-4832-492B-B1B9-42469BD51B4B}"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81DCDC3F-7218-425E-8728-9C78E4FF4E41}"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0B3A36B-55A0-411A-B416-429BC3CFCB85}"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6367541D-0F17-493D-84A7-249ECF34C73E}"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200843BE-3B88-4E5B-981B-47296BE005CB}"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67841310-5C5E-4BF3-AAB3-58CD5B4FA54A}"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32A33FC6-8F67-4217-8C4C-4BDBA892146B}"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6AD01A5-7479-4BD0-965B-553181928EA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8A13716-A4AE-41B3-8A25-FE88478C068C}"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83474AF-6F24-4355-8BD3-6DF90E2CD22C}"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F57995FE-6105-47D6-BF26-9B1DAAB37310}"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2C8D45BF-9460-4E49-A296-0B8331CA627C}"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3DD6F470-BCA7-4B96-B902-6DC6E657A7D3}"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49F0D64D-E9A5-471C-A4E9-B66E7758C0E0}"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976E7CD8-EE57-4F3D-A15E-1987E7868192}"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2C6DF047-F26F-4E73-94F5-EDE35417F2ED}"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8BF95D2D-4DC8-4DC6-BD27-61026B9B3604}"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3974B91-39C9-4D04-A1F5-9C55801AD83F}"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88014885-E054-4556-9094-2562A05BD58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95F160E-6F57-46D1-8068-D792DC2F2584}"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701FC4D9-4084-4167-9B12-63A4B9D2E4DB}"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E20F00A3-FAA1-49D7-B741-80C1CD5C29AF}"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BE259A36-643E-4338-8A34-A812900D9360}"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9F772E86-ADA3-4E08-8DD5-F14B30CF673A}"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745450D-946E-4527-B273-A2827507FD82}"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3B566A84-2D0D-4469-BF40-E8EA52A4E8D8}"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06AE0E8F-B9E6-4BCC-BC70-B7B5DC443B24}"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162D812B-216F-4DA5-805A-B1A3DC525769}"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26721522-0CED-459A-AEA4-42C6CFF15223}"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94200F3-409B-49D5-AB6C-1C96DDD5C4D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CC0D19A-EAA8-4686-9A0A-6EB618BB9B48}"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4207823A-B4F7-4E24-87EA-4E63D31C9816}"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41BF9E80-E099-476E-8419-9CA41D6B2B19}"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1588C1EF-783B-43C3-B21E-2EB4BC020459}"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46D068E-E5F7-41DC-A395-4A971B0CF829}"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52AFBAA-FBC9-4521-B792-F028A5FA5655}"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A00057F-8523-45FD-9C1B-4C5D1609FA5A}"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EC81334A-B76A-4466-9531-4C474D9249BB}"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DEB3F742-C417-48C4-8E93-31C6542DE61D}"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080E07DC-7A8E-4410-8C42-9B0E5AD7C89F}"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191399AE-D087-46F9-995E-1EE77065639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70FDCEC1-7E05-46C9-9899-C82967BD999A}"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6E0E4E51-735B-4CC3-852C-83621AADFD6E}"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E8C8924F-DDD6-4A38-8B59-CD863BE2C236}"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53E4F89D-BA28-4007-A2C4-49C980EE451B}"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FDC8126B-BBB0-4800-8AB0-DDC119136332}"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511C7589-4E33-4C79-8FB1-C19E3FDF581E}"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44C8B9C5-9CDB-4408-96B8-4758F929D5CD}"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37301CC1-F5E0-433E-8437-DD028F727C3A}"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BD793E3-A75A-4D72-8E34-643A70F1034A}"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E3040367-9011-4DAE-B5C9-E8806CC38B28}"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BC490998-BF8C-4E10-9C01-698DD29DCC3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76642ECF-FDA0-4E17-A6EE-3055F915830C}"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C7657B77-8FA1-4187-95AF-9EB2EFFC807D}"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2A873AAD-E4D5-474D-B2FB-7C59910D9193}"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CE3BE731-621A-413B-BB6F-56422915FC07}"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E1D8CD9D-03ED-42DF-BD34-DB4D392B6555}"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51C3AD5-2603-45B4-93FD-BDF6E885197B}"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DD2B24A3-4EE5-4D98-AB6D-CE6E80294327}"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B4FFBDB2-BFC7-4F34-816E-24E4A29BCB88}"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BDABA78-4810-4952-9924-A800F76FDF5F}"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751F1D6D-F94D-42D2-8B0A-91C4F6524DC2}"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EFD8418-2447-4FCC-B288-A175883206F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6118690-0974-4CC9-82F2-15211A56B396}"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4458C27F-B840-4D67-96D2-83E88BF8ED82}"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6484D2A4-3B9D-4835-AE80-20D8EC410652}"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73D1C2DF-2BDC-42AE-AEC8-783A545863F6}"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15472DD0-D5DF-48A6-9948-568DB8603290}"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ECDC1A0-FDDC-4DB6-9DED-85F98AA117BF}"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34EC3E4B-64BA-41AE-8D81-FACB883C5437}"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6200B0BD-D991-42E9-B47A-90829BBD7E20}"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97BAABE1-E659-4A0E-9963-CF54D83D0380}"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CB7E9192-7B9F-4771-AF6B-4B07CADA3350}"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9E207D3A-F9A5-4160-B144-5D70D58D92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2C2B5F1-EF3A-40E7-A095-EB5B3848AD5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0911A066-A33E-408F-8320-B5D22159E758}"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11C55988-7DF2-4489-993C-3428C5787540}"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096E207-BAB0-4497-B691-8AD1246657F8}"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35543A0-4486-4F54-9E14-39412808415A}"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1CD4BCA8-EFCF-4DD7-A507-3757AB7140AC}"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2C2E5B27-66CA-43EB-809C-AC787D0AC78A}"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B570DA4A-CB66-4B49-BFFC-F4E1B1839548}"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BD192393-36B3-43FD-A1B8-45245FDB938E}"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4BF2A4D6-6B17-41F0-B513-B6CA0659A1EB}"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74822BF9-F357-4A57-AF4C-C156331356C3}"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60C018FB-FBDC-414C-A95D-A66CEA62D12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4678C537-FA0E-4E26-BA52-6EB328B27179}"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5E2C71F3-B383-472D-94CC-A0607A115EE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09A97707-E85C-45AA-8935-D1E4DDBF3DC4}"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717F4AD-A31F-4DF5-979A-F8F0315EA047}"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50CAC2F7-29EB-431E-AC2B-33F1B66A2189}"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BD9F6770-A249-4360-B92F-45BE5561470F}"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8692FB02-C8EA-4A98-A585-C2C09BFD0A49}"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F6BAE36B-C40F-41C1-B0BA-3618D4B35555}"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19430095-DDA5-4B39-8000-F5DAEA5BA73B}"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6B3EF2B0-A35D-49E6-8722-F55F5186C141}"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68971EF5-8365-415A-AEAA-F2929C8C0F2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FE48B38D-3FB2-4705-95C4-B6D8CB39D069}"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331E0AC8-1E8A-43CF-BD8A-5A467DD24DD6}"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0643BCD6-6BAC-43A7-8A53-67E5F449692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4CDFB048-7227-4ADA-942B-C0CCA9ECADDD}"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430A31DE-7F1C-4213-96E5-C1EF0BCF4AFF}"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99F9203-77D5-4DBF-B605-251B2ADFC72B}"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2857B67-5330-4FD8-9A5C-69BF9C9337B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16EF6166-A9C2-4275-A4B8-0B5E3FA257B8}"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78C34152-1787-417B-84BB-090037B1B3D7}"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E7817593-15C5-436E-AFD7-6A7C09E9930B}"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5B9A909B-8927-40F8-A327-F07AA0B4D1A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E872E143-8469-4441-A39E-A293696AF583}"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242DF28C-4154-48ED-BCBD-1B334F307D7C}"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D16F65D9-BEA5-4718-BE90-39B9306BF733}"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9FD3DFD6-DCFA-4988-8C33-BAA63E4D3345}"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56BFE59F-6E90-4815-B440-AA5134DFAD89}"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17243FF5-244F-4498-BD92-CEDFA1332A22}"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461F96BC-F0BB-4DDE-A1AF-6824B1D5008A}"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79F5C8F4-108E-4819-B19D-EDD55BF7DA7E}"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E6DAEAE-0391-4628-8F9C-B0BEC5FCAF23}"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CF10262B-534F-4F4D-88C2-DD253EA82B4A}"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F4E8091D-F9C6-4DC6-B737-E55954CCE8D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C3E8E23A-68DC-425B-B28E-7B4AC3C202CC}"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07DDBC00-5373-43E4-9F97-58FE57B32C07}"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4B8B3961-DB6F-482F-ADD7-3C430B072C9C}"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4BFB85C7-3777-4029-9DD1-091566DCF5A8}"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7BC00D7-32AE-42E8-81E8-7877C5B9AA17}"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26258ADE-D88E-4621-80FB-A6D973236145}"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702E26F7-CABA-4E3A-83F9-F50192BA0041}"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BFF435D6-C1B3-4348-B35F-C7A7EE5590B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EE7A512-1253-47EC-ACB2-C9D6DC7CFF54}"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503A3F2A-BAF7-4C78-B71E-B601D85018DC}"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815E1860-0ED6-49DE-A96F-00AE3F29984D}"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1A872F1D-43C9-4AB1-8B56-F72D54EFF81F}"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7AE49C7-E0B0-4969-86B8-3E636A1C05FD}"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5B214E6E-90FA-486E-B4D7-6058931B1894}"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F9E7B802-35F5-46B2-9471-8A862961FE72}"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8012AE52-AC28-4776-8501-64CCB628828B}"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317E4FDC-96BB-47E4-9D62-B406EFC77030}"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F299F2C-1598-471E-95C3-FC222EBDD6B5}"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0745AB67-019F-4811-ABFD-D63851D8C2E8}"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D87A1185-3DA8-416B-BEBD-DC29937A153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822DE88F-D7AF-4BC9-B41A-A176DC777331}"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3BF2C37-06D4-4E6C-BF55-90EB0E92BB9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0591F49-9FB4-4A64-B00C-23A8AE11A6E0}"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0300552A-0140-4A8C-AD33-FA8064380FC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D1908E19-E828-4DB2-9CCD-32B64F809442}"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4ACCF89E-010F-4C1D-9542-9C46131E33C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6DDC4D2F-EBB4-4E8C-94EB-D1D3378C08E5}"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D063B12A-E582-41F0-8873-5A45F46567CF}"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3C332C4F-6ED4-4121-812A-F98228BCD0A9}"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46C4654C-F19D-45A6-8984-64A3A60594A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9E79B906-3683-4232-B44E-9CD25273920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D4FAD41D-12A0-4C4D-BA1B-FB786AFDC5A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2C3A30EE-2EA8-495D-B03D-F295E70ABF68}"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3F4EC17-C788-45E1-9014-8A7946E4AB4A}"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F32487B3-6223-4B4A-A294-CB0E8D7AD9F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0E88C0D5-E36B-4ECE-922D-A4E85AF34F8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8434E98-A6AE-4ED6-9816-902EAC1B65E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44E9D4DB-6963-40C2-A868-3BADBACE0ED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22B58B09-AD6E-4233-A9E9-FAE07FD3E02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9B37F2E2-5E8C-499E-ACA9-6969C8C44EE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2FA5F4B-CADD-458A-A613-9D6BC8EF8671}"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B08F476A-2A17-4105-A9E4-B65C3B413B52}"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50E521D-A5FF-4747-A64C-5D8A2A3EFE2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8F6A39B8-FD43-46EE-91C6-F6A05F4892B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47C939B7-42DC-4B29-BB82-7168F1ED7B2C}"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D7EFEC72-4CFD-45A4-ADF4-160A123D9245}"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1FEA5271-E644-454A-A483-0143B927C813}"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B4DFEEB0-B97C-455F-9DC8-3919185B282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2CB31BB-F650-48AC-9B00-58D49C2874B1}"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58590A3A-06FC-4614-BB8E-3B3767A7E37B}"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74CD468C-B76B-4B45-AC4F-FD04599CDE9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7A7ADE42-6517-45FB-A88F-C8F401FF9FD5}"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C6279A63-2CB7-4B36-A931-575298D7EA0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423AE8DC-EB3B-4148-946E-0D2DD053CFCD}"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FB455F2D-1078-4D3E-887E-8708453C805F}"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C202C681-86A3-4658-9BB8-8131671D06EB}"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3B339016-60C6-4285-A436-21F048D73F07}"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4DC9464-22E4-4630-8886-426EB3967584}"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ED7A1926-2D91-4D71-82D0-0253C400071B}"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5E95AFB5-D2C1-4D45-8C70-7C418407F042}"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EB34A0A5-EF62-4AA6-94C3-95801EA6CE35}"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3F13A852-0815-4DD8-87AD-46E2F16E43D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A816E3F1-C18E-4566-97E0-3821DD7BEE7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9B19ED0-A1C5-47C1-A014-A87C218FB868}"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A79AE9D3-CD4E-4339-A1B7-F266B1B4C3EC}"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E1E95903-AD31-4B93-A0B1-4BE1F543E4F3}"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F65765C-96FF-44FD-B977-E059ED9E454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B428AE5-3D57-4881-BBA3-535D90B32DDC}"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21BFC1FD-6923-4D81-90B7-2C18AFD4C72F}"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DF76E066-403D-43C2-85E3-6B337E72CA7E}"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1CAEDE32-1BD7-48E0-9FEE-1F11628738E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BBB1117D-12E0-4707-816A-5D28FF7B38D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8DFFC2D5-48D1-4E28-BB7B-5F25BE2EBC9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BB2C7D7E-4CA9-4786-83A1-4BD40CB83D3F}"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2AAF0F3B-A870-4D9E-A066-49705FFF47B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6F866D6D-6ED5-4863-9F13-FA532963860F}"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158A6D1-9AF8-4D1E-8946-2347527CA6D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7659FC3-F5FB-483D-B7DF-AE379499046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CBCAB51-65B6-43A8-92C6-062383D0AACB}"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7DF47051-A7E8-4315-85F0-2444E68B813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1F5EA7A4-270C-46AC-9C75-D06943EDCA8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DA4E35C7-E557-4F47-9FFE-8C522C6C11D5}"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D1ABCA09-7EA2-4B45-942D-CDBEFE9DA2B7}"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8A75620-96CA-46DD-BB39-8200290B010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9F5EE1AF-29CE-439C-815C-4ACC232EDE69}"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9CBC65B1-242C-4D96-AAE1-AA5901D29D5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E108DDE9-3BF4-498A-A4C1-F0EEAE026FA5}"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78E401D3-E74B-443C-8E98-02D2DD9C11F0}"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E861D277-493F-4DBA-9FFC-0BD1FB7E8E20}"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B96283D3-0736-417E-8FCE-324D31B0925B}"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EEABB24-F6D1-44DC-8723-FFA23ABD72D0}"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90D18AA2-EBC8-4619-B607-DE26EC7C58E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4F61705D-0B12-4D04-ACA9-DD62098DD6A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310770D2-2B72-4F35-8756-C333A9F930F3}"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68FFAB3B-00E0-49ED-B8A1-80945F6B2DC2}"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387613ED-1577-4ECD-AA35-917F8728A68C}"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4B0A6D54-A619-4649-8D48-29ADBECC41FF}"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1C63589B-807C-44EA-8374-613D021E456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E2620F18-FBBA-4125-9C2D-FC396AC6B785}"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544B041C-56A5-44CC-B5E8-747F82BD4A1F}"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3D08F678-061D-4904-9060-C55399C85BE5}"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17E4ACB7-3DC8-44AA-82F2-8886E0390F0E}"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F212DFB2-6B92-48B1-9038-0890BEA9E9BC}"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EF0A877-BFE5-42AE-A5FD-D8F2360C577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E799210B-2EE9-416F-BCD2-7F18F2E3EDB4}"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AE2D4427-3011-4074-B83D-7801E85E761F}"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43062726-9609-4728-A24F-6616DD955001}"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477AF7F4-331E-4650-94D2-D9C95DDCB2D9}"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5E417C86-C737-4EF2-B88B-6EE523899D20}"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B97A849C-6B45-4B2D-8D0E-C6A8596003E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C425810-C7A3-484F-9306-C2340062A05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3C5C142-9004-4B53-8E39-DECA42843559}"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A32C06BF-9FB2-41A7-92BB-2E5C0D1287D1}"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52F44B39-1C42-44E7-B620-074FFFEDF787}"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9BA341B2-F9C4-4816-AE76-81A6365FBD2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25051F7-D0EB-4497-BA32-F7F54F53A9C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48E497AE-CA51-4162-B230-C4B8AC254AA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E1CB489-8AD3-41A1-910F-E341774B0C8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59A9AEB6-5459-4C47-A372-6510C6363DD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0927D2A-F49B-4C52-8F6A-6372A0FF276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800D0897-8C34-463D-9B67-D287C494C1EB}"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628787E9-303B-4CDB-A31E-549768F3619C}"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D643ED4-4945-4EB4-B06A-02494384478A}"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455439FF-1879-4FE4-9F31-EBB69DEC42DE}"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5AC4CF09-BD92-4F6A-8D56-B59F16D5710E}"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0D583AE6-BF04-48E7-A16F-410C9E87A37A}"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25670424-9F69-4B78-9A76-F3A37D3C9585}"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6B148A98-81A6-4F78-BD04-408F1D40F105}"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E89FFD0-FE69-4F96-B48D-DDEBFB2D58DA}"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3DEB1875-6CD6-4C94-9CCF-722BAA3978C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19B4381D-8DAA-4926-96EB-DCF7C4C39FC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851CF803-0B50-40D2-AC0A-7F07EC9A7088}"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1A00AB6D-B041-4A65-A646-56F5B5E34C9B}"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0ED2A219-62AC-4909-9D85-7004ADDEBA58}"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2ABA7B89-529B-4272-9F8D-14A2AC9A6D54}"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C0BFA274-9D46-420F-83BA-4F6ADDCA4DCE}"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7AFA489-0B54-4571-88E3-52C8C4BB9687}"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EF97667D-58AB-4A92-B89B-D686668EFCBD}"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C7769B79-A82F-4DB7-847F-3D56EBFA12D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FCF6D251-C1BD-4481-870E-24B7622FBC07}"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37CF1A23-CB94-4913-8D7E-CCC4D215229E}"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1083DFAE-9221-48F8-9856-B777BCBCD10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66252933-9C82-402C-AFFD-7F4E51A3DD1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C0432DA9-07DA-457A-95C1-C55159A9981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7E34E420-C40A-4E6E-A64E-C0E8EDE7A0C6}"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B70BA3E0-5531-4EED-8D3E-C2CC874495E5}"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4302AE0C-9A9D-4011-93F2-54ACB313D3DA}"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0178DA28-7269-463E-8498-B36D70F403EE}"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4C32BE1A-CE9E-492F-A362-D403281D522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848300C6-B686-4052-B4D4-66E0740397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C731BDB-9F3B-44EC-8365-81E89406E80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B9D1510-C486-4E08-8D59-45C5F9D3D71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862972BE-E8EC-4916-BA75-BDBCB8BF7B7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30927713-2AA3-473F-95BB-3B8D7C260B1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D72398D-BA8C-43BA-90F1-83B9C45416F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55D81A5-696B-44BE-BE68-9028E954B0A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DF66FA72-7FA9-417B-8DBA-AC67B0B8E07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699E13B-DBB3-41CE-861A-5C8A1ACA2BD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B99AC020-D28E-440F-AA06-E553CD84B4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3D6BE48-5BC7-4ACC-BD31-45D2300A759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09B2013-A4DE-4E39-95FC-6C4AAFBFF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1D1D6E2-1252-4706-8A68-E5C5CFCC7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631BB80-55DD-4F91-84C1-884FF562BEB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87CAFD0-BF3B-4A42-93DB-51ECEC97801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F6445F64-4B12-4548-9F9B-69FB3171854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EED848AF-5A57-4E24-9678-B329061DAEA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9F301420-749A-4358-B841-46C97344CD3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0ADE561C-2452-4B84-B215-39C835C9C1D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95FCCD9-8DE0-4C4C-93BF-1E484415BC1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46382D8E-A4EF-43FD-87ED-8D09B8F1E7F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10657CC-C46C-4C84-952B-E9C4A9A3DA3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28BDDCA-BEE9-4AC3-89CF-60737B70376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015207E3-E752-419F-A098-5CB7AF39C1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82BBEE-8FF0-424A-9C01-C8AB789F5AF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0AC49F82-BC83-4F3D-A90C-792FB85F394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8B1B69C-60BD-4448-96B1-AEE75789D28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C0FC4B2-E5E0-4810-896F-2A38FF56DAB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95BBAD3-B51F-4B1C-B829-855FC35A079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C3124B1A-54A4-4071-8723-AC22662585E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EF905A9-E846-4D27-974F-B008A237E32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D65AF2DA-894C-42D4-A6E0-51343F08459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A80A29A-852C-49EA-82EB-85F322EAC25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A83C6113-9F37-47D5-9940-3ACD5624635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B4E159BE-402F-4756-AD69-42781C1D63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3D51C29-F33F-4D71-B9F8-CED5B93881D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21C1DA5E-2ADE-4021-A810-7BD32218244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7D65E9AD-0948-4EF5-A3BA-03631B1EA5B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B7776A4E-E96B-419A-AD96-A4B1E87BDCD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68E15E5-2FB9-4191-B9DF-276DBBC0590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5D48FDB-6DB5-422B-9800-C3CC94789A1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8924FC2D-499A-45B6-972D-BF8597E9D34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40D16B41-04C7-4A0C-8B58-1604991DB01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84070CEC-9A33-405B-B9CD-78DCCA72D82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BAC34A74-FEBB-4790-A441-93B87C0A0A3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C83396A-D186-4F02-8973-41A8DACDE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ED7810B-72B1-4556-9F7B-ED5F7AA93CC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A4C5C3DC-462D-406A-9FB0-1490EEF23A5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CD49700-4A5E-4DAA-A3AA-5D5B4360A82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C89D571-C0AB-4C14-AFB1-5DA09BCC7AB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E5454B4A-F27D-40BD-8623-0C8FC7E75B0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564720A2-437B-405F-BB6E-31995A49966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FF1A298-39A0-4320-A597-6765E198866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936A6309-F932-4CC3-B1A8-9C3C4FEFFFA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67C4221-FAC2-4BCF-9B0C-2615867545B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6CEBEFA3-1A26-420A-B58C-E051B38FFE6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BB500B4A-26CE-4881-A530-0F9C5FFA5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C08958A-701A-431D-B870-3E4A1641F6D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BBF09024-E25C-4BFA-92F2-95E381C28FA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02BE864-E23F-408C-A64F-1A891C61CE1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8B7BC8B-308E-4066-8605-A149ADB1A8A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76C2EC22-10A1-4AE9-B5FA-488CD4163F3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A65B0EA-1204-4397-9D0B-33491B3771D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67A10F80-2825-4099-95C9-AC7013FFBAF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AD061809-59A6-465B-A6D3-2D40FC756FB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E9776B7B-26D7-4A56-B3F5-2D27763A270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D2112CD-4A16-42B9-97F7-FA20197785C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42E94E8-41FA-4EFE-892C-421DA435D1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475A21-CB92-4B22-BF20-9FCA908C78A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2CD0A98-D085-4CA0-9D5B-64D3A6B2C8B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CF27B329-011A-4134-9C12-0D3C5CAF15C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69761B7A-0031-4006-8B52-BAE4CE668C8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4081E53-B2F6-4E95-9AA8-40007026458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F7299463-DBB9-4374-BFC1-625706EF644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69FA5A3-6224-4AA7-975C-AFA90E461E8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A27F9DC2-72A0-4218-AF39-5CAA3F98F0D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5802F36C-6B48-4B11-B0C9-4C90F4B2C73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76E9BDA4-CE06-407E-B867-55F7B333FB9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CAB9719-3843-4E2F-947C-FE67B4D538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4C4F51-75DF-45B1-8C73-FE811D809A5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BEABC44-7347-4A5F-B69D-779B2887C9F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1E73185-65B6-4BFC-A151-CB74BAB56D7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5A378E8-844B-40F4-B356-329F015D139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DBEB40E6-907C-4C60-8293-489BAE4140E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F3D00CE2-5597-4354-A176-EA62F6AF0BD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24188E0-568C-44BA-B6C0-0F20404648A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292C4A4E-1BE8-45CB-8223-4FADB8C8F52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67D2D27A-A00C-41C8-B519-A8A7FB0B451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A6D0FA9-31BA-483A-B12D-599F1387FD8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8519A2C-6D3B-42EC-BACA-8497104914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6091C9-E5D7-4CB4-AD45-3942B23C869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0007FECB-7BB9-4948-AB9E-17064E742A3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B748DFD3-48B2-4774-ABB2-29EA8FBF83F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18BD086-FB0C-4EA1-9016-8D6571B7318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D13CB2CA-9FF0-4448-930B-FEF9DB2AF99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0B44B549-E0E8-4E27-AB0B-C0579E51F6B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A4996AED-41D1-477B-B962-F466194B5D9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11352D3C-FA49-4B73-BDF7-0CB86767893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5259B25-F617-4E04-B054-9CDB99700A6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7CC16A3D-7643-491A-805C-3C39B00F7E1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69ADAB08-39B0-4AE4-96FF-BF2D98D9F5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1385651-DAB9-4D44-A3A3-6AADF865716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E5DB89E-5463-4877-A49F-CDFAED04DF6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D7435D94-BEF6-4F1D-B3C6-A9AB994C7EA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314AE328-9B92-40AE-A8AA-DF13AD497C8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303DDD1-B37C-4EB3-AF80-693256C716E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C4078B7-9E4E-4B97-93D0-7D0851A2C0E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29CFFAC-B874-4BA6-A86E-E84BFDDDC29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D1FD41D-1326-4978-9CFA-FD4F1AF90CA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01C1CAF5-889E-4038-AA80-C97FAEE92ED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360D20D-E6FC-4498-B17A-D9A422432E7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73D6F27-2713-4335-8207-09767326D9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E64BBB-96AE-4F93-831F-A1A7DC4266C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A253587A-10E5-4254-B169-BD1735B7E07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E78075D4-4EEA-4A87-8B7F-B3AF6D8F7ED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2CCF39C0-E03D-4533-8811-AB5452BC81B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103B8491-2E6D-4DDE-8905-7CAF1E55F08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E6871A67-5381-4571-A9E6-7CB5B158819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8B839D06-20AF-4A5A-B4FE-D718B4A8704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1044E97D-40AD-49B4-B848-67B2767A025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F35B62BF-7D16-4DB7-B4B3-B246FD09A9F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19B8A76B-2908-415A-A0A4-F78F86D3993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E5F7CB03-3740-4912-A6C9-0E964DDC3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7D4D84-CE5A-4C0F-A139-64A96E14E4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78E2A7F-B3FF-4CAE-BA9D-F3D560BFE9E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0391DE27-CA9E-49E6-B6BC-62D6792E428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4FDB60C-5A71-47DD-9F24-413A64E16FA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30EF14F-2D6E-4A93-9B79-B1844CD09EB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2955CD71-172F-4B49-A454-BD5F29D9F8C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51EB7B34-792A-434B-9CB6-C6356739EEF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C8398ECE-229B-438F-BC12-90E29863C4B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F5FF0E92-EB37-404A-B9CF-987F21F406A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B8629D84-2132-4574-A573-708DDA6F11A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B6607F0-8B9F-47D7-90CE-AD771FB850D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A1D16F9-EC3D-4043-A528-A05804E077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2B24139-6FB1-415B-BFC7-0E4211C402E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99066CCD-4B2B-4140-B9A2-F2909364517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3C5E630F-EE82-4EB7-9A7A-95EDF66F155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DD56C807-BE7E-426B-83CD-D6BAF7FC168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60E68EE-CDF3-4FA5-B037-CB9E02D410C2}"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61BCC4A0-413D-4CB5-8816-3161BDC389D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D9BF634F-44AE-4C81-A1BE-14859E9F040B}"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ACCF271-4CBE-4506-9B5B-7DEDDC31DEF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626D36F0-6FEA-4880-A887-BB5342FEDA2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EF13C925-D288-4995-932A-56F4414BD75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9982D81-4E47-4A11-8C27-87B78E3571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A19EC7E-0E42-4195-A5B3-FE95EB93CF6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407686F-A8BF-4FE6-9EBA-F7E9A224984D}"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5D64A29-2275-44B6-9B09-3F076CAE875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660846E9-9F86-458B-A306-28EBA4F5036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28A9A1D6-C757-493B-A828-71F71BD50E4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3FC4A3D3-6AF9-453C-8F3D-BF3A5CEAAD1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4C8D94C-3185-4649-B60C-DC7D2633A83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4BCC9A86-4F10-4647-8FB0-3D3F1724C4E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52D57ED2-F1C1-4734-ACE2-D114A507475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B6D2F9E2-5ECB-41DE-8FEA-C0D96293362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F676EB2E-B3B7-433E-8FC9-4F55F8B30B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B0C0104-AF90-4F69-8C84-B00CF7BC000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8F6EAC0A-594B-4883-9B87-E95969A7314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EAE001DA-D3EC-4826-B61D-CF79D73C5B84}"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3A10B29-68F2-43D4-AECE-324B7E0A9C6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9D8AEB96-BC59-482E-9974-EA500CCEFCB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72DF88A7-0D81-42C6-88B3-F8AA4F2F451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B02CE857-7088-4530-ABA2-9BC4BBC0DE8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05C3B5E9-61E5-4CE3-B869-C1B064F8377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81BF2DD-3B1D-4385-90EF-213EDD7B11A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80285E97-1519-42B9-BE2E-92F8CCF4708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C82731FF-5FA5-46F5-8E90-FE56A67E64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2790E44-993E-4EEC-8334-2566A4FDDE2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8297102A-4EDC-45BF-9B15-CB2FF4D780A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C203DF98-E66F-4DA4-8A1B-63802023152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250A6A26-131F-45E0-B588-F97BC4273E2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57C9C54-A037-4097-BAE9-3EDE226A7D9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6E65CEB3-32FA-4FA6-8C01-C8F81D80DBDD}"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6959647-5370-4C15-87C7-877B6A36687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F1042701-595D-4405-A3EA-69ADFB3C47FD}"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168BB162-2E58-48D0-8CB4-F6FD07FB7D3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FBA3AFAB-2A92-4E79-848C-FF8EC3DE7B9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5EE68DB-DEDE-4498-B797-DEDA46C118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7C46513-75E4-42BA-B035-E83856268B9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78979A2C-725B-42E0-A610-094A5E7975C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7BCB011A-A2A2-4874-A4B9-A8F93A7DEDC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B7F0A2F2-7832-456F-85E7-9DD80D5FC8D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8DEE66DD-C896-404C-A037-43A97910D78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39E7C3EB-2B00-4CDD-BFFD-31C2D0D4144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BCABE03-FEFE-4361-B727-235998C47EF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8DE338F-8232-4D1E-B34A-1EF5D6FFA8B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4337AC9-42D9-44C4-8EBC-EB07EC90416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B5D5BDDA-242B-4BFB-BF52-1F34A8EF6B6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E9EE2908-0462-4A87-90F1-4363CD5D7D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2FCFAFF-DFD8-49E5-8017-6B719D26F0C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F661836-BB35-4CA9-B9D1-31CBC780703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DA2FB69-63ED-42C3-AD92-CF2632E1864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3E9E6316-B4C9-49E6-9C9D-FE154C8027B2}"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B4168DBB-390F-492D-8D8A-390C1D397C4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EE635C0-3E41-4875-BC8F-0F6F9E9346F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397BBC78-7BD7-4A54-B1D3-505513E452D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49A4DAEF-BDF0-465A-A621-9273488234F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4481914D-407E-419E-80B1-0F89A04B4811}"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F8DDB55-58A9-4AFD-8627-875C7DF4A3F1}"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588B7052-BE84-41AD-96B2-DD194DD665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DC24A-1ECF-4FD9-A129-88D9058E016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D4E50D9-E7DF-4C6D-8618-815C277AA83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DF4AFD0B-5D32-40BE-A6D7-DC542DE5C1F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766DF9A8-86A1-47AD-AC63-432ECA94B64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EDFA6D0D-4769-4088-BD88-D08A5AA9580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FBD06938-EABF-4176-8E83-A39B70CBE68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C4BF5B4E-913B-43BF-B2E8-02CA9920620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B66E9A9-0147-4CEF-984B-C0FECEDA128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BDC46CBD-481A-4C92-AEFB-1132BE44577B}"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0F936D73-4878-40C9-9016-8E9CB3C0A5C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F13AF53-4352-4019-804C-3B6D7E4CCA1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AE665D0-3E41-402B-A287-1CF82C9D4C6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E7C47170-908F-4E56-B6E3-63CC80B1BE5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BE883EC-1BBC-43E3-8E94-2BCB6EB58F8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64FD592-0AE3-42BD-A826-19CB02EA7C3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8A264FAC-F165-4FF1-99E5-D361D2A7207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89491434-766F-437B-8D70-642067C36F3A}"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93AFD95-5D7C-4309-89B7-9497FCD1A6A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CC48AE8A-3139-49F7-A17C-0B41A1C8B3B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BA13B04A-26C7-457C-9AAB-DF692BA70AA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B139D2FF-F2E2-4928-ABEC-95F788065AA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9A5F4BA1-F443-4B63-88CE-20CFCB7D7C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9D3C189-A3F5-4FBC-AA41-8B0D85960A70}"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781E077C-B248-4852-8468-63A42C40159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A2A60124-372D-4E39-AFF3-4EADFACB66C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157073C3-C805-4205-B3F1-6AB3EED05DF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9DD5ECC-8BA6-45D3-AD7A-99D0F93BB2E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20F53D42-AA01-4253-9AE8-B1D846D4DC2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AD9F710E-0987-48C4-89F1-8CA51978258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E8107713-3099-45AE-9B3A-51FA6F1DB43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7C3A9968-4C4A-4093-A3C5-F1EA9EDB057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CDF46A1A-B3BF-43C1-ACE1-6B6A4218D67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FB78BEA8-A955-48D6-812F-238E0CDDF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7F32528-27E1-4F61-8D98-4D0F1874E5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50FD9A6-923A-48DE-B35A-EDCFEDDBC55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E95B93D3-5712-4753-8436-CCBC8AF5040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E531249D-7817-4680-8969-00B05E02BDA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6C822D8F-BA8C-4693-8545-AE92B8DA60E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6F648F6-6F26-47DD-816A-BCF355B1BB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832A601-1414-44ED-BF9B-7F236F5654F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3E646DB-8785-4D18-94AB-8A54E2527E7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86D85E8-6311-41B2-AE37-41DF3128613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2F06988-CFCC-4530-8A5A-1991EAE3235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FD38EAB-5646-48F4-BF9A-B7166B0A321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25855F8B-9048-40D9-B75B-42A3A52D38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FD2D5CD-0ECB-4153-AA7B-A5137764D62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43E1AF9-9125-48F1-9089-1AE09F4F754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CA5879D-0707-472D-A893-B99CA340E7B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B85C9E2E-2306-40E7-A6E0-0490845E7F7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BA384FEB-21EA-413F-A492-644738E8DEA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C3510E70-BC11-49B3-9BE1-B0923E17EEA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FF28878-D458-4099-BF93-F1A3DD21D00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E9354A6D-0C2D-4279-A35E-5961996F1F0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DA1E47D-672C-44EF-8737-FBC817D00B5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899BB50-DCA0-4D4B-BBB0-A6DCB297F92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F4098139-FA7E-4253-A7C5-8F107E3A75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23150D8-4120-4611-8C5A-6D17D00B849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C70BF9E3-3F15-4849-A15C-BB65519F1D7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0CCDA422-8E5D-44D9-A652-854A4BD6BD8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4D0A8242-3CAB-4671-A7E7-7DB3B31B4483}"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5F497736-97C6-404B-9904-8A2C58BCA37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2A989904-10FD-4689-A08F-0C2C079F12C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A5A96DA3-5439-4002-8C6A-BA0F4B3A59D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EA23397A-989F-4E0A-98A8-D71D3C0FF37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62EE5A0-B132-4992-A1D7-81798C7AFAC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A8BC901-EA4C-45F0-8F39-B6EFE8664F4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D67E3AF-E63D-44C7-91B2-03874EC0CC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253F558-B821-496B-B9FE-CC82DF7B398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E1C1F60-D243-4350-AB8F-6D9B08915F0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7802DC65-C9C1-472A-8C94-AD7E39E56267}"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5C15E55E-A201-402D-B374-BB4EE4D42AC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8FC1A5A-7939-480C-9D65-414BDF90E49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1737F49-EB1B-4084-B7F6-61BE31E39DD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A491471-F830-4A48-902C-06E80B7FD78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EA29725-35CF-41EE-A20F-7DF3391F19A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2E5E357-E268-4F8E-BC5E-686831BBA5F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BE9B23F-9C1B-4FED-8576-BF40DA58AD0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040770D-E99B-43C7-804E-91202DAE3D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8C2092B-9F3D-48AE-B537-24BC46CAF9FC}"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966B47B-04DC-484E-9FF4-CB848F31CEF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966804D-F6B2-4A29-8553-347FA239699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C5B32ED-A5F0-43FF-B936-28C7312C0590}"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7F8F888C-A800-48B4-A5A8-1EA44BA7027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591E9EF-777E-4CF6-B40A-68E66B10447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F0578A9-78DA-4D1D-80BF-4572AA5584F4}"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D9683BC-B0A8-4841-B1BB-D64BCC92877B}"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0000F448-2C1B-4C8E-85AF-C7161EFB76E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9CA922CD-9212-4C3C-971C-89222199264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C9B7D45D-BDA8-426D-85BB-3626434FDD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FD6402A-436D-4D1C-B565-F237B03C3DB7}"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CB20A33A-16A1-4D16-B9DD-ADC304F9CAA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B575E786-9B81-418D-892B-BC70B1A1209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E76BE88-0A58-4A47-8699-F9D00DDB6C4D}"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F1F562F-C3F5-4D54-979C-9B0E630E367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4B269862-18CA-4797-8212-773249781A25}"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6C5FD32F-9CA0-40D5-9339-EBF0139B70C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EE92C04E-1DC4-47D3-8447-205A62D763D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D558663-3A39-419F-85C4-62CEBA1709C6}"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3A35E849-92ED-4B63-BFAF-F1B0D2C3B73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A2FA6EED-77C5-4C37-964D-5077362E51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4977B3F-EB84-4398-A5CE-8F5E11D088D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EEC49050-C8D9-4CDB-BCD5-6E2336C1BC8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80574821-3071-49D3-80A0-49F3F0C817F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BFBE2573-223A-4609-85FB-53E9460C2801}"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BE7D24A8-9E06-46C5-84CA-C4CBA71B193A}"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9205EEF8-7BF7-489D-BA86-9C58A47BD2F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8C36AB5-9AD2-4BAA-8221-4FCDCB5D4C7A}"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218AA2E6-AE88-49C6-9BDF-E3D3304EC1E2}"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3440EF1C-92DD-46FE-BBE8-ABB688C19D5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A4F51D15-EA38-4121-A5DF-2791FEA992A4}"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06102666-A233-49C1-BCCF-541F161C8C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4EE1876-14A7-4802-9EBC-2CE6EFD5DA9F}"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7537467-EB3C-4D22-B213-B1BF4A66AA9A}"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16ECFAA-6D97-445F-A816-0FBAA4DF3C7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7A86AEDA-7285-4F7F-B631-07911CD8E845}"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6DD112DE-24C7-48FB-ACE5-4C7ABB6A34D3}"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6748419-4EB6-4619-8A57-7A61D02E3BE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B4EFBC3-4EC2-4DF6-B8A4-6D84EE1E587B}"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D32CEE7-0811-45E7-A377-FCAD72908B6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C735005-2FCC-4DEC-96D4-D15B77F40E52}"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573C99D0-1A45-47D4-8033-F0BF849176B8}"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5BAF5BFE-9809-42E6-AD27-9078457BED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2047CD9-DB88-4E39-A992-601580CBAA9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BF6D80AA-4C90-479A-B905-AF204F6EB7D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56D0C1B-2EB3-45CF-BA35-446E799A4232}"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25F7A59E-375F-4DC0-8381-83950AA70697}"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D1608E8-5A51-4038-93BB-2D41846FF07A}"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E8ABD4DA-1AB2-4A27-B8C6-425DE701FC76}"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DDE28750-1FCA-480F-A2B3-2E9D5800028C}"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FAFD4AF8-4724-4FC7-A43A-0796E04DCF1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E53F79D-FA72-4236-A62B-92549489A5C4}"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7909939-185C-439B-82F8-0D1D3D248D6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9BC3D25-A351-40CB-A7FF-3C8BA9175F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3355A2-C2DC-4F52-8395-51000504B2A5}"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7DB0C62-59AA-48E5-870B-02DD2B9986E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FF365C70-CFA2-4D16-805A-4CB9685924F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4A4C31BA-90C3-4224-9835-CDEC0E28D112}"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03874242-7B30-4E60-8EB7-4FB7FC3DF464}"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34FAB401-1539-469A-BB78-A31D884C9BC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6D4AC101-B97A-4A56-B266-19C6C870736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46EF56EF-83B5-4575-AE38-218389379C0D}"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8A295F00-228D-479E-9D3E-6FED4AABF9F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D8CA16FA-ED28-426F-BAE7-C868BED63C1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55D02CB-08FE-483A-A686-A8EB9B2DDA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93D54CF-1FB1-4DAA-A209-E3737D314B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50EF71E-26A3-48E5-B7A2-2CB51D3F28AF}"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870CC5B3-449C-47FD-9538-B67428DC4E6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2102DE7B-768C-4585-82BA-F52FE065603C}"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F8D0B68E-C143-40F6-854B-1854C2A571E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D59557D2-FA14-4FAA-8699-08461D55EA6C}"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66F7532C-E457-4FA6-A56D-2525A769F81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42383B5-5D57-46F1-9018-D450F3086AF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934F847-792F-4CFE-8082-D2E7FD7C7594}"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2FC3B45-EE45-4095-9423-5EC3C890DB88}"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85003C8B-C012-41EE-80F4-856DC598EF1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E560F3C9-D00A-4A22-AD49-F553D86B28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E9F0A3B-E2CC-41C8-BB8B-9B4BF604773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EC03DAF7-CD71-4A3A-BD23-4748ECA46786}"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DCBA16DF-44EE-43E5-BA03-FE3221D6F81E}"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511C187-9FF0-4311-8230-C4EC9D0CDEF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CF9DEC22-CCAE-450D-8701-292F8AC5DD5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4E20BA8E-04A1-4588-9EE6-E89EA1AB841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252F3A73-AC93-4A45-87DA-FC65FAE5DE56}"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3997D23B-F927-47FF-BCC2-2555BA4EF31D}"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26451A4-CDD3-4D7B-9CA5-215759701021}"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C9F6A8A8-2CEF-4F9E-82D6-FD1F40128CB7}"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6123E0F-6851-4C8E-ABCC-F774EEA6BC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86284A4-8FFE-4590-AB75-E708632B5806}"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9B99E3DE-7E17-430C-8822-533BD61D797D}"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9B04F75E-8A7F-4A4F-8A44-A378629CA47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00D4F743-32A1-4FF0-9B93-F6FDDC6AF868}"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CFCC930-8DE3-47B6-B485-A9F94877C6E4}"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8B1F7CA-03B3-42FA-B18D-8F9309F0AB1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C8BBC332-A2E2-4AB3-A897-BCCA87E1AFA7}"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57EE723-207E-4729-AE30-4CE3C2291224}"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965F3928-37FF-4447-8744-987440384443}"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1F9C77F6-FCCA-4EDB-9AF8-A3753DB56607}"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4251A01-F54D-4BE5-BB62-6E7430980E0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E565287-2987-4384-9E2E-799CA47BB3B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10A64A7-B478-4BB0-AF09-DEE03A3296F5}"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59790B08-5F43-4F96-B8CD-F0FB20F6F64B}"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2D1C1E4B-64D9-42C9-9BBA-430BB3EB983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7D0211CB-76CC-4862-94C4-C49D7EC5E6FE}"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9E2440F7-148E-415D-9B0E-FECDDFB4258F}"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2E49A7CE-DB1E-4EA8-9D7F-960646BBF88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053FDD4-4600-42CF-8DBB-F4B53844CD2A}"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8932E91-82D8-40F6-A62F-A540A5BD0CD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246A73D1-1009-4AD3-96FB-DCD44C15EB1D}"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753A8CCF-1692-4F93-8E1A-8768B7A28D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61ECD8A-0DFF-49B0-8E00-EFC1B94F0B9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0114F470-4353-4A13-9F99-A95035CD74B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C133EB92-327B-48C4-859C-FE8FD64EE9EC}"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124B0981-E911-4024-A62B-AE5469A9FC54}"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414F9B17-A9DA-4EE7-9E1A-9C1C0B317FE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B1960B9-2ADD-47C7-BB30-08996C4E0BB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D9819548-5648-4984-AC8A-EF5F06496512}"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2379C022-690C-4680-BFC4-D15D5A84DF7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7A9529C-15A6-415B-8A0D-0CDB6731E4A5}"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B96F4DF-3364-43E3-8828-ED4A1577163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66245A14-DFEC-4852-8D34-CCE9BAB14A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76BF999-A4FF-4C9B-B594-8859B27031B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F175AF8-9751-4198-AF34-20529BD640B0}"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AED0EE07-C648-436D-8FCA-F5BAA7955F93}"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E5123D14-A0D0-4966-B482-88B9C5B79D8A}"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4930A831-41B8-456E-9435-9F4658911FA5}"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681FA8ED-30DE-4A96-8789-C039314AB551}"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FA84C9C-61B3-4F47-89AD-A47011E92A6C}"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953D64C6-5B0C-436E-914A-979F2704F0BC}"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700BA946-894A-4D62-AD5C-2A7C20715F47}"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23ED6163-F54C-4D04-88CE-E8D304B412A1}"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B3CF72CF-AB4F-497D-AC05-C921FA196DF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1F38FD3-0B12-4246-AFD5-F74FA3D28E2C}"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D43B4BD-873B-48AD-BE4D-974E7FA7D34F}"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D26A99B-F95E-4233-8A11-F67E1FEF16A6}"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FB803808-902E-4D1E-B7EA-8C68AB1EC26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923B2FE3-D11D-466E-B048-4E34F146A8CF}"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99846847-CC0A-4769-A216-CB5F068873A8}"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0534860C-A439-4043-A14F-C72D744C5FCC}"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F067F06A-1881-4852-A63A-8315C2688D6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83F816BE-A451-43A7-929E-424B8D4C94C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B69AFE62-6142-45C3-B466-767FE6EDB9C3}"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1E6D4699-82E9-4ADC-91B5-F5E1A0CEAC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9A3000D-D2AE-4B70-8C81-51D20D7F5D0D}"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CB2A359-22CB-4FD8-BDF6-CBEFD2C3306F}"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A6A9C77-B225-4A21-A6F4-42B58CD45FF7}"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AD933D6C-35CA-4328-9853-70F0636646F6}"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C8AF574-23BC-4D71-A1D9-74C8CD6706B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504F2A5-6C48-45EA-B6DC-C86060196878}"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B85F32DE-0E74-4E6D-B379-60C01CA8E4FA}"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D8AEFF31-2501-4CFE-94B9-EF6246E3959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0865182-A464-4623-B606-B359700D086F}"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29EBCE7-E182-4626-8E61-80631DCB620E}"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3AA218BE-8539-476D-8E1F-FA4BB2C2EB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122E8A4-5DC4-4A50-8A5B-CB3B14BDA3CC}"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D8BFBDE2-5676-4D51-A7DD-7EA4B9D015E5}"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05C339A0-08AE-4731-BAEF-B16EDADA6766}"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9FB7B7D9-D918-4BB2-89CC-A784C1F5561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10FD0D9-6554-4F91-AC35-433E0296DA85}"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FA7A8E66-8DF5-4381-AD46-884FE2B45BE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54F513D-B432-4102-9D9C-93EC8BBABE4B}"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0D729B67-586D-4CD5-A9E8-E143F31801FA}"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00FA74DC-153C-4250-81EF-34B9D56EF7B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FD1CC9F5-6EEC-44F2-999B-D1B844DA2E61}"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895AAE2-6198-414B-9867-1DFF386D1E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ADA09FF-88F6-4AEE-ADAF-E7A68AFB2E60}"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478D2CE-98BF-4D3E-AA43-80C42E024EC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EB390F25-2DC6-4B55-BCCB-44D6A8260A86}"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E0327A0D-CE07-4774-A6EA-48EFDAEF62C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B7430B72-8FF7-46F1-9ECD-13A5DD7F4F3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379F744B-0447-4FBF-B111-887E7CBA23B2}"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112936C-C47B-4E79-AC21-3BB602E99645}"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688F389-574A-4A93-AB92-C73C957B1745}"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0639419-1076-4702-89F7-415D7AA8284D}"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273BA3F6-A6D1-47E6-B6F0-7C73D2F84305}"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5A561064-756A-4AEE-B0F3-B68B6A114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5BB8A64-0CBC-4E59-8E15-BBF5709F65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D19634A-8C79-4A01-89B8-65353589A65D}"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52D4C205-7CD0-4856-A505-032EAD3A3616}"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1B991727-D2AA-41AD-8A06-B5F6E33D0F6D}"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3654EE24-2B81-4D66-B423-57A929B9BFC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1FBB9F0-69F8-4B3A-AD8F-D1C0B1CCE229}"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37C34D0-68D9-4FE4-912B-ECFD969510E9}"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92B263CB-8A20-45C1-A392-C40057490708}"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26403D6A-187E-44CD-A020-B5D700E33E51}"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B7791BE-D9CD-480C-8F61-0953DA4C7DF5}"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7DC5081-A537-4881-BA89-B014A5369416}"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0B90674-769A-4248-BF6A-A743C2BC07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C0A503-5E78-4874-9037-D6C9C7C7320F}"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CA7A5DA-597F-492E-8755-AE14EE00F59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2FF56FF8-D73D-45CC-A459-9C4722D92399}"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A79B551C-EB88-4063-A3A3-5B6F4A398672}"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D4ACA26-2633-44E9-9416-1C0D152F8CBF}"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D591DEE2-CA80-4FE7-B69C-96A3A48E02CC}"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F3A3A40F-F6C3-4A2D-A63D-C173AB9165D9}"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EAECFC69-9996-4BAD-92A2-484224BBCE8F}"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FE22CB4E-B650-4489-AFE0-0DE377E31B6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391FB786-F5A4-424F-86BD-DE3425CE4830}"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35B4C45-ABDA-4FF4-99DA-E8C13E0F02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1CC9648-A826-41BF-A82B-500DBCE23344}"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B25E2672-EA7E-4C52-95B3-558060B209B8}"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DD50D145-C5E2-429B-93B9-725F7F8A0B9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311C679F-08E2-44C8-ABFC-32BE847493A1}"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C01946C9-1AD6-4058-A3FE-D2195C0C84F1}"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1F67FF2A-5672-4E52-8E65-3F6B2074B28B}"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C3DE44E-0F79-4D95-96BF-26857477F49E}"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8265F00A-2B49-4421-91DB-5F47F8465ABD}"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17A9894-D9E5-4D52-93D9-1C016A7F4B38}"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7EFE9CCF-3321-445B-A5F9-16422A984C3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87D4F098-A73B-4B95-B7F1-CEB9259FD7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99B8202-4E76-4DD0-BF9B-719A206103D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FF307F8-4C15-44A8-955F-C85D97AE1CE5}"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22BF484-ABC9-439F-A679-3E03A19A405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C9A459C-3182-4F2F-99D9-A891F21A3B52}"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5535AAE-6110-4350-9D28-893DA1452244}"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51F9AF2-8D51-429A-9FA2-547E2D75FE5C}"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50FF927-72EE-4429-AF03-62A888389E5A}"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B2E2300F-0621-4762-A0DA-8AA92DCFDE5B}"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35E40658-C49D-4339-80A7-DD2DA7AFB9FD}"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32EA19A-708E-463C-832A-94C6CB2594AC}"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797CA409-1990-4D02-AA37-E8CCD5AE4C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81DD724-ED79-4723-84C9-80EAF9BD0566}"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6CD7743C-998D-4640-BAFD-37338E18A566}"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8D2D44A7-C46B-467E-B12D-A3944A67E5CC}"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091CFE0C-5998-469A-A18C-CE0796B3233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CFC3284-E496-4E85-A066-D7040E720CE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00DCD39-6A10-43A8-9E49-D613FEE0210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CC699DB-83A4-49CA-BA8E-D4E70D6F6F28}"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98453264-4063-481E-BB84-94101D280352}"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80001770-1B4B-4C10-B312-2DD41530C01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76427CDC-5954-4EB6-9BFA-5C83380280E6}"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7CF1262C-6E51-487C-A8D2-103366BF58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07407F2-7793-4ED7-BAE3-DF02EB903FDB}"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D0D93478-3401-4C0D-955D-D0CAEFF8E50A}"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EC83AAF5-FB7E-4EA1-9678-C871E09B00E5}"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56ECFDA7-A6F2-4D82-B052-26D77655687F}"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C2FDE08A-979A-4397-A814-77A8645D704E}"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9922F55-570B-43A7-AC12-79D6D42EAA10}"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705B3A2-9290-47D8-9E8C-CA7CC584F75A}"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8FCF9FF-8632-49D3-B580-948DD21E10C8}"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396DD4D-4CCA-453D-96CA-9981CC0675A1}"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86E73E1-E011-43C4-A838-9DB6D99FEE55}"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61AA8545-9CFC-46CD-9386-BACFF541E2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5BD3AF8-576B-45A5-854D-E5C5DB790836}"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E2A67A1D-830E-4704-9897-A5234D9D52BE}"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69BC39C0-DEFF-4FFA-A843-E116BB9783C5}"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715AD1E4-200F-4D64-9050-FAF67670EAD8}"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0FE546B8-8970-460A-8006-3525E4126664}"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2C6543C1-4BD2-4E18-A299-0A04C79E33E8}"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E664AEFC-2A3A-401D-9D01-A9589DD9C1F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69AE53B0-D958-47A8-A011-2B15FD7CBA56}"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4273A3B-D127-4A0B-ABF7-0802E1A78D36}"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C75B6F95-68B4-4187-BBAF-D196F7A8EFF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0E0D9F2-7422-444A-AE3F-30CDACADCF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F6FDC1D-A9E9-4D61-8C80-C06352447B93}"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F3203F60-BFD8-40DE-BAB8-551F19315252}"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7652B240-18BE-4A17-851A-20618A27C51F}"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0E91BC3F-FFE5-4E67-9CD9-8260BBE5120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D650EB6-0A8F-4D6B-AC23-CE7C62582F66}"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912C09D4-482A-449C-BD15-9763A2E8AFE5}"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8489FE28-89FE-40F9-B950-A591B8E7FEB2}"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A22EB23D-668C-41EB-960F-AEE16723E150}"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DB43F8D5-3D1E-47F7-9649-A349094D5AD2}"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33E70BC7-5F01-4D3B-AAF1-7B161396CC14}"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BCC1BA2C-42AE-4A0B-961F-9A45C691D6A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9503C2B-928B-4459-9F25-CB332A7C517D}"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5E28186-37D5-4E5E-A727-95D17755A199}"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3EF6000C-B7C2-4E2A-AC53-449CF5A6E5D4}"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F83F554-3586-416A-A41F-AB2B30309DB1}"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F6AE96CA-81DC-4BC6-B7FE-D4B8B9F4F29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B8933F96-0E09-4D32-9342-CB63D0CD0E6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EF0B656A-21A6-4C24-AFB0-48AF39554252}"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D34898D-4F2A-44BA-AC0B-1D99AABE70C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F3A5ECCC-584E-4F4A-BE26-4498BCF37FFF}"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8044829F-477F-4882-9CC1-262855BE1CC7}"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99AF6F54-0796-420B-ABA6-55A5CB084A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69C7F41-9DE7-46CE-9761-5569BF3D0518}"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C287D93E-1232-48D5-A9D2-9A043AFAAC96}"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2802DD0-C6F3-4298-963E-F1D889AE98C2}"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966782C-9382-4033-83F2-A0592AE26062}"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EE41303-4D99-4953-A6A7-DEAE30FA797D}"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9D0C6FD-73AD-4DD3-846B-AE262986B10C}"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26092CD4-918F-40E4-965D-3AE00DB691C6}"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365A5F58-78ED-42ED-86B1-509B97E56F00}"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9855D319-3769-40E6-A94F-8E83C33E05E8}"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CF80A543-FF2A-4E9B-B007-38E9CAA5320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F957357E-D457-429B-9B7A-6C1E528E2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72E8161-1D99-4D72-B4FD-0B5003A79D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B790108-8FF4-4AFE-9F93-1C343284A955}"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7758614-C2DC-4BC4-AB8D-197A387F5032}"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9DED71A0-ABE5-4AD6-91DD-0612B11A1F71}"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51ED9A2F-7AA8-417E-BB0C-B0F55D964C2C}"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65B65D80-037A-4E06-A813-0E925896E4E4}"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0431656E-6742-49CD-B858-C485133A87E1}"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78A95E59-E49A-4C18-B752-9C482F6C063C}"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C370FDA2-AA4B-40A8-8DC8-334F9CC0F33D}"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8164F965-284C-48D6-8FF7-F479796E5A9A}"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4FA91FC9-A0AF-48C9-A9DE-EE020550F78D}"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418C8215-DC82-4ACA-B3CF-7EC98FED667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EF15F7E-5E28-425A-90B5-04AD8F716F19}"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FA38FEC-FD29-4297-BBD0-6B35B00CCB5C}"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F0070F12-0A50-494C-94D4-4D043FE19FC5}"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EC339E7-872D-48A3-93AC-C59D814C4AD5}"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844288EE-9F22-4D8B-8DA1-AEDA3B21EAB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56425B32-4E84-4F73-A4A9-8A574C297BD7}"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8C85CB8-8D04-4FB3-9724-B92257166B2F}"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8183F62-F5B3-4AB2-A364-F1374F98567A}"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59EA198-AC61-4685-A913-C0606161B667}"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CB3A1EA4-C5DA-4E51-BB21-6710910EC3A3}"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0C422B47-DE1B-4CDC-A86A-0332733B92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763B1FB-44B7-418A-8999-CA56EB62A0AC}"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E28E795A-2AFA-4A06-9AFB-153CB7BB9CD6}"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D517D974-5010-4A34-B24E-BFE401663AAE}"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E04903E-B9CC-437F-8589-B375DA1CBCED}"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21B785EB-8618-473C-9ABA-09EBF77D2BB6}"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5D600DB-4BF2-4F74-A259-E4CD14779721}"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448C0C13-95AA-4E21-9640-1F1E7ADAF2F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0CD076E8-380E-4E65-B740-65651D059D05}"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D456C0C-4B95-4DFE-9019-B9AC15E4165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1CD594B-7958-41E0-9608-29BACC6D0889}"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5E79B60-1837-48F2-8316-834DDC02BD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9088232-774A-4974-9346-256D7A81B999}"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3BB2FAF-DD67-4CA2-9210-9807C746BF61}"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6A470861-589B-4644-9A0E-57471CC7D2AD}"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9112CC76-8C1E-417B-93B7-28F70FBBFD4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35A63D11-4476-4CE9-891D-F3D0BFBA7E05}"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65F31ACD-E013-4FC2-A34B-D51221A42C01}"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1B4CA73-3344-436A-B5E8-D4DF2F4978B0}"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D596E871-7018-4188-8C92-076316E1B332}"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6CFF796D-A858-4A41-BDCC-E2EBF259F8F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91D8A81E-BC72-4005-8F76-21CFCD3DE0D0}"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73C5990-40FD-4C5E-BA7C-7E06D4E6787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9E3AC6F-A97F-493D-AC7B-A5FDF9D0658B}"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13807BC-2308-4405-AE42-A4AAF9C4ECFA}"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F611488-1210-4C0E-A5E2-31BA7869468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F1EA3FBB-433D-4B87-8E2C-1E4236FD5E32}"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C2419669-B9EA-4DE4-81E1-7106663666D3}"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C52E7E08-D7D4-4C0E-8D91-DA3072BF5F7C}"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1F72DF7D-B592-46A1-B18D-BC72743B3CE0}"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4C6FDE26-01BF-4A7D-85E7-2B60C3C51AF1}"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98CCEED9-F4AB-4C84-827F-B781CB867345}"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9815D68-B7DB-4111-ADD9-FC53596BB6DD}"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25120C40-6FDB-4956-82A4-9ED545C2B9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E625F2B-5D12-4D63-83DE-78ED0C8CFA94}"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C51C5FCE-1BF7-4ED0-A54C-A8B49008BC49}"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582F84C3-6362-4CDF-8910-CB219F88878A}"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9A99D20-6C30-4BFB-8C59-4F4939AF334D}"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C87329BD-DA17-4823-A3E5-6C51D10287C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B6B30858-B7D0-4CC3-B4E6-08ED08FACAE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15E5EED1-52DE-41EC-AD89-54EE56A1EC82}"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12297A3B-68B6-4ED0-A773-88E8C448C833}"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10DF6AEC-5C93-4EE3-8E36-4D1B15470CFE}"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F40814F8-A29D-4C3A-917A-03B6B9E4F33D}"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BFCBEA3E-B870-41B1-A106-C6FBF71B9F7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7A7F40F-5239-4030-BC23-FCF8F2F3B793}"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0BB16C8-32F7-40E1-93F7-A00EBA4A1AC8}"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0302C84F-11DE-4B0D-A685-8DB7FBB18B20}"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3ABAF718-AA5B-405B-A355-219A423C9B5F}"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825DC52-5BE8-4C79-A6DB-D02540FF820A}"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9F0E1BC-E552-4DC9-92A0-23EF02766AD2}"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7B155C02-20E7-45DC-B618-A4321F093818}"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294C446A-BD14-45F2-BC3E-F722643D36B5}"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21BED1D7-9F02-4FC8-B18B-3821285D53DA}"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67436890-12F7-4A13-8212-ED80BDF705E8}"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142C481C-7757-4B06-891E-7EF37D79E6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2086AD6-A3DC-4332-BBA1-A423B0067409}"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2D7385CD-4CA4-42E8-8AFF-69CBE0365409}"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6DFF0E32-DCB9-4C94-B540-8A5CEAD7E82C}"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A8624DD8-EA45-4A2A-A1A0-542ACC6F8EC6}"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16DBCAB4-188F-4678-9F5D-24A7D7F2E2C4}"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A058B076-79C0-4364-AA07-C9628B28B967}"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3CA8D613-7F81-443D-BDA1-9C7926794F65}"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AC18C6B-8586-452C-8659-CDC1A87F5420}"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48665821-35CE-4732-A2CB-62966095C32A}"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9B1E6535-2E99-4BFB-A3CD-F3B1563D0493}"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01C395CA-6504-4CD6-BFE2-549EB1B52E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9EBB270-8C5D-41C9-BA99-F702F5AF30F7}"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DDA7A910-19A4-4B5F-830B-4765B6ACE295}"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CA274E0F-ECE5-47E6-994F-69F476CD7184}"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869F0313-5E75-4F7F-8410-CBAC9824C5D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83CDAAC-87DA-415C-92D9-B01411BC9080}"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BD1586CA-91C4-4E4E-83F6-D0C06D226041}"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4DCA616B-9DFA-452E-85B9-0F078D422EF8}"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D031EA67-9D64-4370-9742-0DA0E1C7AC5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771E874-7DCD-41C2-92E7-3C552EBB8B08}"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873E053D-1C61-4E82-A581-AC0649AFDBED}"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FF12B94-1F7E-44A4-97F9-63DC11C6D34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51236E0-E3E0-4E08-811A-1CD0A17C6B08}"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44BE3B8-8127-48B9-8854-3DB4710F0B00}"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9E3D444D-4796-4ACA-BEDC-5ABF5C485884}"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C05E988-9118-486A-A069-FEF688C70087}"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5F57022C-871B-483F-A9F4-E0AABEBE9FA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FA3550F4-04EC-4C2E-A9DE-0172A1773180}"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088232F4-8FA3-468B-8AA5-C3F6D5F29A50}"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BB3683BE-413E-4178-98AA-7D1F45402BFE}"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07A6A44A-8256-4980-ACAB-25E934002756}"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BF669B94-5859-4683-8ACA-64B3DF62A04E}"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42E2925-4115-475B-8D12-9EB3FF2675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FB06FB1-FB2A-477E-B1C4-FA6EF2F666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77715BD-198A-4F70-9DAA-0C852E919561}"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18E339E-F319-4391-9E2F-AB9FD79FFC0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CD60C0F8-39D3-4C9F-9BE8-DC1244833DD5}"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4CFA41D5-32B5-49FB-8E6B-1A9B9A75B3F9}"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FF8E270F-F2E2-4BB7-AFAF-61606DD8AA42}"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25A4E977-01A9-4AC3-8B50-C990CF37939F}"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B22B50BB-4DBD-4E4C-9D9F-B244219EFA55}"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722A010B-C57B-44A5-942C-AEC26F445A3F}"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8F22C9D-BC70-46B9-8DF3-BBF5F1DA65C4}"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B6E71872-B9C9-430B-8621-E1BE1DB4F62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03A28A0C-D697-4F6B-AA9E-08FEB4D76F3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E9F0976-85CF-470F-B2CE-5C74D2A4B6C8}"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A168AD2E-E1A5-49E8-8E9A-AE307D74B093}"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E0187A2-C72A-4A1F-827A-C78C9C24F4E1}"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C09CEAEC-AA23-4DC2-A10A-C70ACACB6BAF}"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EF78F1E-F84F-41DC-A6DF-B3B929E2B5A8}"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0F0CD62-860C-4D41-B69B-5D1813503D7B}"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A4E7FF23-85DB-44F0-8645-68F50544663A}"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44B6AA48-2195-4B34-A52F-4012058F7AEA}"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F900C07-44D1-4D37-8760-184AEFADA598}"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EB2EFC6E-24AE-4FFD-ACBD-8FF62D09C612}"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8CA0D3CB-E8B6-4A39-BBE8-61E5C1F176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2E54BBC-06F3-44CB-AA86-A1C538A36DCD}"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9BA22EDA-B084-406B-80E9-F0CC2DD409E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B42D9718-7E1F-4A9C-B3F8-F0B62F872016}"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33606FB9-9798-491C-942C-02B927000ECA}"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0CA0B8C-EAB5-44D5-BAB6-500B0250D63B}"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9BF8409-F08A-4BAD-A110-A87AF28FF541}"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ADABEF16-3424-43A2-9E97-5E470DF955AD}"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41EB7416-D1B0-48A7-9690-60491EEACF9C}"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503B0E99-3AE4-46C6-81BB-00BEEE48822D}"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6912378B-1129-4A9F-B9A9-5B8FE1440E9D}"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0DFA865C-11CB-4BEB-85D9-BDE9171DCA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5DA3A5B-3077-497B-933B-939EFB22786D}"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13C1102-2BD0-452A-87E8-54A1EDAC9ED3}"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EF48D7E-E718-4D09-9395-E9E1D1D1E02C}"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AD96C34E-7F99-48D6-9C2D-CDEDE8948808}"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15660B61-D0CF-4D78-A5E0-94BCAE8CF599}"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17B40346-D7C3-4487-8936-E51A4FA99322}"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0CA42EB6-B409-455E-8D45-E6C9F63C28CE}"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33EDA4AA-50DB-469F-9400-A71BE3E931F8}"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77CECDD4-1B49-4CA6-BB4A-20E1E183EDD6}"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BA9244CF-803A-4159-8438-220AA36DBAE1}"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449C23CD-B735-46BE-9CE9-15C9E257A4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353B67D-0307-4246-A0F3-6D4714EE6AE7}"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5EC753C7-898A-42FC-B7B2-C859DCE6112A}"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6945040-01F8-4E60-8715-1ABC90F5CF2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BC8414CC-E1C7-48FC-A15B-9877DEF319C6}"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470B8542-A4C7-4FD5-BB28-17D1F70CEC0B}"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F1DC4800-1F66-44CD-9DC5-1F38734501F1}"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D73F00AD-4FC1-475A-AFFD-73E823161867}"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8A941625-84F3-4BA0-87AB-50922741BFC7}"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27A2AF0-B05F-4450-9EEC-FA25263196C0}"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A1FB0EDE-4C58-487C-B94B-C17AB2AFBF23}"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E12A5F14-B3BB-4B5D-B328-7FA9DA3690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4A9B718-08ED-4FBE-8677-E06A9EE824FF}"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9CC59BF8-67C7-470E-AC98-CD8B64759F7A}"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D9475647-BA90-4E7E-AC48-8503D5D6F6AF}"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5E27427F-1990-4B04-9A82-7DD9BE377817}"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D66E8C70-2510-4832-AB3C-6E4EDBB196C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C911793B-D8BA-4641-9824-18B5A56C8CBD}"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685E0EBC-02C1-4241-82EE-7211BF07D8E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D4A2649F-C454-4FCD-91D0-6582D861341B}"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3802C1BD-9C26-439C-A5C0-B6BDF1A0A3DB}"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EED036DA-F4DC-4EDA-B666-F800B4A26465}"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7A4CA97-565F-436F-967E-C5727E0F1A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5309A95-0895-4BEF-B727-BCDF581D073F}"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3FC62790-8F73-4067-B031-18F8D6E8F014}"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CD6C5BC2-EE7B-47D4-BACB-1D3A774F7912}"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D28EB8EB-3D38-411F-81C2-95C56A012160}"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3F706078-608D-4231-A173-0CFC4831D71E}"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6DB84D42-9A5A-49A1-BC63-5FFEFD9A394A}"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9413DADF-CF67-4476-BC5D-5D6FE2A9C414}"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53F84EDA-BBA1-4D70-A69C-E7E485D4B81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B8C967A2-334F-4B2D-A846-507D7687C0F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E348258-0693-4A2B-9682-1CBF24A218E4}"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3A9B077C-D81B-446D-907B-E26B1AC213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5486E34-BCE8-4E16-A855-F27585F58280}"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22A2A6C7-DC15-4B89-83F5-756696BEC682}"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6DE5D05-6036-4B2C-9720-94255A3F6B8D}"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8F3E8C1-5B09-422E-9A42-68617916010B}"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B04640E-30EF-4842-BDA9-C3452C0AFC75}"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C00F2CE1-60B3-4232-B321-4E985CBCF903}"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22D7CA14-54C1-40EE-9CF4-D75D6F4705E7}"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3D2E079B-48FD-49AA-A1A0-E1B9F8B3356D}"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B840B3C5-26F4-4D01-AECC-BEC01C409C1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AA2C2541-86FB-421D-A737-A72EB4D524A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A100ED68-D735-4BCC-8F3D-3CD7625AA3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C0F8F0C-8C85-4410-B8AB-8D138ED935FD}"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A60EE620-292E-4B31-B4D5-FC9D5E851924}"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222C145B-A79F-4872-92AC-801EC28072E8}"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8C217709-28AD-4DFD-9413-90CDBAEB34A5}"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BF7493E-BC6D-4E8A-9E17-02EF5D5F904D}"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BCEDD9E6-661D-49B5-BF04-513E86CE5F49}"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E87B0DC-86B0-40E2-B126-79BEDB0CA2F6}"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E2FA5B98-F9CA-4D23-8F30-E0F4E69F5644}"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378C0DC2-B6F5-4C8B-8213-BEAC5F11873E}"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EB4018C1-F138-4D81-8AB9-5C2D1B813237}"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6B88EF5D-4098-4596-B03D-91DE13A8CF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4CD63CD-1E97-4C1D-9511-55E1A603E7A4}"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7722223F-E477-4B41-90D3-44F33E527051}"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AFB5D09-6EDE-49ED-884A-DA0CA301C1BF}"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7C5FEAA-CBE0-446B-8E7C-17B456A14B03}"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1EE4B450-BF30-4DB3-8698-8FF43CC4D0C1}"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ADFC7926-FF1C-4975-B9AF-D922627297B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48491F2-0A0F-4754-96BF-664FF349B502}"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F365B7A-D7F7-4B3A-810A-59930B2A21A7}"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7F3277D-E5CF-4D5C-9EB8-D4B3402BDBFC}"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9D1E1E56-EE6E-4F40-8210-5D4DF6731EB5}"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E21B80B-F4DC-4CCF-AD7B-4DF600EAB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E76DE5-B553-4E80-845D-9F0024EA048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931C03B-4D1F-4F3B-917A-FBAD8B074083}"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048712DB-B80C-4024-83D0-B40AA95B9EBF}"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CDDCBF43-17FC-4733-B716-BE8DE12C606A}"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F523FF8-C623-4B20-B633-3650B9E77EB3}"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40021884-7759-4A17-B33D-8542C14B0D56}"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0902D539-419D-48BD-BBA0-AF3A76D4CC07}"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89135A52-FBE0-4C70-9373-C9D8A7C7314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3BB4A2A3-272D-4F29-B9B2-D46C7F31F68D}"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93AF6C81-6C4C-4267-839A-F3390D7BE1F8}"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530C44A0-BD43-405D-9DAD-A844B492BE4B}"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D7AC788C-5B03-462A-8A7A-3C0949AC24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13B3554-AFC2-48C0-9ACA-B546F51AB4AD}"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B8AE8732-2E4D-40AB-9CC2-3D9C1ECE835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79ECBF5D-0ADA-428A-8F86-09B186B4D859}"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B66C360C-FC6D-4F87-8DF9-96C1DC42715F}"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7966A129-3ABE-4228-B3F0-3FB0A0B93A1D}"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6186739F-FEBF-4868-8AB1-90824446E6D7}"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17F0BBB4-16C9-48D0-9026-37A9FA37C377}"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D4CF5542-34D4-466D-BCB0-24291416EEB4}"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D6288904-10AB-40A7-BD1D-EA14D654151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CD294836-3BEC-4845-82C0-4A3314A46EEE}"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D8B583C-B519-4CF7-9A99-B0C041B4CA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E5E2D50-1C30-42BE-8DF7-76867CF39BA0}"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AD897AA-111D-4239-8BD8-9BBE9C1FED15}"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7155B294-8133-4842-99EE-45AFA66B8632}"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29E471A0-7621-4414-BE4C-6DC9E5EBA882}"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9A4ACBFB-0187-4046-BC03-C7BF594B23D7}"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75485FD4-03B5-4553-94D3-E9A31BECC143}"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900938EE-AEE4-4E3F-BCF3-41B607BA564B}"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CBCB20F-FDE2-4D5B-97DF-51BF2B2CDC71}"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88903B88-87CA-44E7-9B69-8423CA6A7655}"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5BB4A436-E07A-48B5-A240-7C38F0D967C7}"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30759F5E-CA80-48E3-9B13-22A7585055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5F92478-429D-4AFF-8FA4-8E8096F0F020}"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E92F64E1-6E00-45F5-8FBB-84FD0E92AD2E}"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B737236-2D59-435B-9A23-CEF13C6B3A5C}"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394B56B-846E-4F5B-936B-B7C4D64278C3}"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EFA29C0-090E-46A3-9944-A191208C87A8}"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D78ED7EA-DF19-46D0-959E-6BFEB78766EA}"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32E47B1B-3105-4656-A48B-5F1CDCA0A4E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85964194-0296-4473-9D9F-AE8953D14472}"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1B9FBEAF-D830-4E34-B2CF-FC1ECE25E1E6}"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804FBFE4-6260-47A3-8635-EC6D95C801D0}"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C7313AC-FF64-4E2B-8EE6-414A92AB74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7D42BC1-BC58-4C32-87EF-79D8ABD55A21}"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0133EDCD-C0B9-412E-952D-10F2F279B9AD}"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0A84A036-42D0-477E-AC9E-621385D7706B}"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0B2DF1F8-3817-435A-9D23-7EE6C3D6C84A}"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7B9A164-935A-4C87-8D08-4779E012F32C}"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145585E2-DBE5-41CC-AC4D-5075667389BB}"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B1B6F1DD-23BF-4A31-BD7D-347D60D8B79D}"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C44ADE3A-94AF-4F53-B7F8-D1FC5E5605C5}"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EE7AEA04-2AE3-480F-8635-7134F5633A9C}"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D8CDE3CB-7753-442B-B359-CA9367188A94}"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E069F1EE-B600-4AE6-925F-C3CC67BA20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8D6902B-7403-46D9-96CE-2E13897B2726}"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D96B138-600E-4F07-878E-916F2B2ADE05}"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42A14D31-9D3C-40FD-A76A-CC35919B91C2}"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80E34B3-3CC8-430E-802A-430096407AE3}"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7C9C8D23-ED26-4104-A231-465B0E90B59C}"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030BEE37-B862-4D78-A585-348F0523345B}"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B5D4800-3D29-4B2C-8407-8FB3CA69CE4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E10BF0DA-BCF0-4131-B7BE-44B3820E7F9A}"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109894A-127F-49C0-84FF-7411FE41DAF3}"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074B834E-02F5-461F-A76B-096A966443EB}"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F06C5EFA-7EB2-4E61-AFBB-F715D371AF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89C155F-A03D-499D-9FA1-B72666CE7206}"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154E17C8-7CF0-4889-B795-DB82E88E045F}"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EBFFCF95-5A32-4677-965E-4B5406DA5E01}"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16051832-2B6C-41FC-A3AF-5E17C6C56DAA}"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72DEBC90-C823-4376-AD7A-E12F653A56E6}"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D68EA750-B4AB-4693-86B0-2155E585AFCC}"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0456C536-7B88-40B1-A586-272ADA236726}"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655B7C69-7CA3-457A-9CEA-4DEFA86F55F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02DC65C-0163-4549-BB38-D9212F99527B}"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119F354-743F-46EC-8C6D-BF25B8F85FAD}"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D65E46B1-3CDC-405F-A722-35FEFE4CE4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0C416FC-4445-41A7-8D4E-5338A6B0B223}"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C11EAD0-D472-49F2-B916-8C394E15138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1BB5542-918D-481A-9240-AFB18941016E}"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91F83B59-5C2D-4EDE-AF9B-1F17EB000436}"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5810A6DE-ABC4-4F98-AECF-55F962AEC9E0}"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1D4DA494-11A7-4171-91BC-3E1DB5AE277D}"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2E7160FC-396F-401A-A1D5-47F31AD67D80}"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2A8A8B7-5FD0-4856-857A-61BBFEE057B2}"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BD5170DE-55F3-4D1E-9903-9AC4768F785F}"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3493C9E4-95B2-4005-8315-38A70F0CDFFB}"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696AEFEB-3A8E-4E0A-B60D-ABC6D55ADD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F6D6DB3-22AF-48C0-BF7E-9F0283EB45BD}"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1DDC42B-EEB2-440D-A16F-EABB4E0BC096}"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BD057B17-3BE0-4263-8569-87BCCE49BA2F}"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9543A150-E719-4D63-BB02-B7A061D3E7F4}"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C95ECCC3-FA91-4CA8-9DC7-942CEEBEE5BC}"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D9866720-6FEA-4B91-BEFA-20FF15C3AC98}"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AA27BC3F-7CBF-49C6-B647-DEB7CDEFE560}"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5B8831CD-D0E3-462D-8045-066BB6D8F2C3}"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192E9DB0-B9DA-4A09-8253-21D9F8CFBF5C}"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87B53E78-9FF4-41E6-81D1-2AA9853A8BBD}"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CEE44EA1-BC22-4F84-BD50-BB1B06C07E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655AB2E-195B-4416-84A5-5607F4ED32E3}"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56544491-EDEC-4837-ADFD-34F1C2339883}"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177C880E-AF22-4FAE-AE7D-00C28350508D}"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006DB7CB-19A0-4E72-A120-C205F7CA416D}"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F5CFF2C-DB14-4F05-A07A-556BF8E3BBC8}"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6A0E48B0-C154-49EA-BEAB-BB82FD5D5554}"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F9F73C84-BA4B-41FC-A4D9-A5D240B4B6F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57D9DEAC-7ECC-4E91-BB29-1F159CD971C5}"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9ED9BF49-FEE4-443B-9DB5-9C630D4A8D53}"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05F929D-0040-40F3-A6B8-91F0579E0C02}"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3783D715-CE86-4DB0-B693-DB1D2287CD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03F48-3FAB-47E4-85A5-54DC05C4F2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DFBA5-24E5-4310-8A03-039A60D8D5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3C3E4-E174-442F-B3E4-E41DD62458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3360A-1392-460D-AA2E-7980A1AFCB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70A4B-5ABB-4C07-B17B-BD8016C6A3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31EE7-257D-4055-827A-6F70BBFBB9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34F42-B474-4B82-9897-71A9F0A4BC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A2D72-981E-49D5-BA7A-3F269DB0B5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023CA-D957-495F-AA90-EDDA4E5E66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B0FAF-23BB-4350-8E97-6AF0F7E659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3876A-728B-4E76-A742-1B0991923F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947CA-AB16-410E-80BB-667611420E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CC3E7-DE90-4BFE-8C5F-EEEC6644F2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83021-A70D-4C9F-9E3C-E61E68F43C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D217B-4937-44AF-ACAE-52AF90E40E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7DBC5-8C66-47A0-8326-EEEB4785BE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9722A-46B9-4250-84E6-9D00E56F15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9B47C-8BD6-4B70-AE99-D9BD714F15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E8408-FDBC-46B6-8E92-E8AB28F333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FDBB5-06D2-4B97-8C21-0C68DCE128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BC5A7-B2B0-4395-9675-41DFA201C3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F666E-79BC-4220-9734-D3FFEA0A2F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C634F-CBF4-4D23-BE51-A9713CD389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87564-2AF3-4147-B5B8-B8CECF7CFE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0BF77-A57C-4B8A-8F58-4B4CAE56AE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598D4-2C2A-4AAF-B8FE-E9E985ADBC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B2F3F-FA3A-4AD2-BA39-540840F025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378E9-B54D-4658-94CD-C319BEA619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BDC3A-3775-4DE9-ACB1-0CA5D9023E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3A745-E0E8-4B31-9A40-7F52B4BED4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F57DC-E50C-411D-B7B2-69C302B578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D8D24-38F7-4816-AECE-045FCF1F56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3F7F00-582E-425E-B4D6-26FDAC167E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E2509-E473-43E5-84B9-F0F5C61AFC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F979D-F70D-47FA-BAE3-9E0E95BEF4A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2B922-9FBE-4998-B016-5563100A7F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D4A08-1771-4C6A-9D9F-07D861DF54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76868-08E3-4DAB-ABFE-92B3B99E60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5ADB5-5EA2-41A8-AF26-9C328ED877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593C6-439D-40BA-8657-59F3C0992B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EDAB1-857A-4F09-AEB4-32F0006D7B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98204-FC0F-41DF-AEBA-EA08272D94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19103-659F-4DC2-97A2-827B12E4C1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9C6EF-38C9-4603-8EA6-DCDC14D6D2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F37E2-C41B-43B4-9417-45178104CB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5AB3F-0C94-4F9B-AC0D-3C01EFA2D6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40F7B-4C85-427D-853E-2843084A48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C07D9-80DA-4830-822A-EE0B599946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44F84-A050-4F0C-9A3A-31A7F68232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0FD58-8B6A-4A4D-9B13-EA3A50F45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049F8-8820-4EF5-8574-1017042EDC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92CDA-8156-4BCB-8614-296C77EBF8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D3958-823D-488A-BE23-A3B1617BEBD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9D7DB-31C7-482F-9BE8-14246B9FDE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FF84F-7FE8-41A1-AF89-94B2FB22AFA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A1115-F428-4D9E-8FE4-1604C1CD47E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0DD64-8428-444D-AA6F-D1C2074AC6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6BD71-9167-4C0F-8FFA-80156308A9F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94D2A-7AC8-4172-91EF-8373993FF88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650D5-3109-41B6-B182-7B40500116A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85058-B064-4177-A520-70DD4A5A621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46B1F-878F-4B8A-8B2C-6B834811ACB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85476-379A-456F-A112-FB844BFFC3D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90F7C-32F8-4BE2-961A-5AD777748A3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FD12E-8465-4ABF-8C2D-A862370968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DFA2E-0290-449A-9DE8-5583D84333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83B41-3447-4FF3-B37C-4F13DF8ED5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6C27D-DF88-457E-8E78-72FFF88E6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36755-7116-46D7-8BB1-85F1EC794B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66BB1-D065-49AA-A619-B659AA5622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E1B4A-2979-4A29-8928-A7230087EB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F04E7-7A0B-484A-A145-5BDC62F9B5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43FDF-8C5A-40E7-9A9D-A12BD7992C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8ABB7-ABF9-459F-B9E7-E60B7BF3A0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367A1-1E36-45CE-BCE2-99537EC99A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5A2B2-E970-4C40-B378-2DE11FA213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427FE-A194-4A7C-85D6-BEAC7C2061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66AAB-C0E5-4AD0-A0DF-B8BB1DDAFF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C022A-0F73-43C2-A4F1-BC055B0CE0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7B8E4-9950-4DDD-8BC5-C73F8E4622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56FD1-AA2C-404B-84EE-B07CE598D4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26A81-A12C-4A04-8B76-DBD18AA5900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279F9-02C3-4B46-B706-FC7356948B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71903-9B79-4783-9ADF-4EECFA8B83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E50F8-900B-4F1E-B87F-1394020FF3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42CE9-68A5-49E5-9FD1-6449F13EF1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A579D-CBDA-4476-8279-823BC6400A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7ECB8-1423-45DC-A9FF-62AC7D13E9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A4DB9-CB7E-4952-9244-58B265B97B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352A1-C534-448A-9AE4-3A9086CBC3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6C59A-A8DE-4623-95E3-EDF516F7CA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34AE3-B2F2-4A34-9CEF-57AE033576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D06E4-9BD4-493D-AEA4-0126B06B86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309C5-C7AB-4A5B-97E8-E57B2A99AA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6592B-B665-4E8F-9098-7DEB7D9DE7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60405-562E-48BB-9205-2B28236B1A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4F3D5-372E-4A6F-A4DA-060C8CB3E1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421C6-12A6-4FD6-A224-1118C148DE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FEEC6-AB54-4E95-888F-E24BCB3498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8D40E-A321-49C4-B277-0AAF7B87E2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A23B6-3A1B-4ABF-9167-15A12FA7AD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4D6AF-8789-4480-951E-7B1B7905DB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12388-6083-43C0-99D9-A6E2945941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ACA4A-38B9-434E-A41B-6F2588FB97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7EDDC-4674-47A1-A194-96F7BD2DB4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0D37F-2173-45D7-A4E1-C3F53B1379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04A11-7B75-4687-AB07-3EC569B160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51401-FB7E-4B23-9BF7-6D99D97ABB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EDF92-D330-4D31-9F49-CA2FB12F0D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604DE-9D6E-4D89-8A94-47B464258A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4E874-0CAF-4BE1-9BEA-7398857723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038B0-11DB-40A1-9DB2-E3EDAE6DBA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3C6C8-9D6D-4189-B7C2-B6D1BBAE96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C1EC0-4117-493B-B561-9A98C1070E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721A0-85BA-4005-9D14-CC22D8488C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22984-124B-4EF3-AB88-020E6034D5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E8900-013A-4A9A-9451-40AE8DC169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7A6C4-620C-4068-B685-A56A70C434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05EAE-58CE-4707-90D4-C25EE25D0B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65F83-90F9-4F08-8C6E-2ED64BB786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DCA6C-E454-4750-A969-BC489D980F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C3017-A9DB-4CB3-9017-D72DE5DAB2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C2333-F05D-4A24-B380-DE2DBF6442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A7CCA-DBFE-4FB2-8F7C-CB13E3EDBA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18E72-09EB-481E-8FF7-91AF07C59C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91D0E-3929-47EA-8684-B75B43205E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AFE32-E9EA-4BF1-9DBE-88B09EEFD5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C2DFA-6A59-4415-8702-B2530C45B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67C42-02A8-418F-95E0-6642179DFF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F8466-8384-4511-8315-25D1FCCA1D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23E21-D47D-4E33-BB01-1AF782D9E4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CC370-197F-4F0A-9B36-554D62611A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0FE01-F6C0-4414-A2AA-E767B52B15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A423D-7AAA-4DFC-A970-99C3D25CEB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30935-27E6-4012-99EC-33C166E95A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23921-487D-4F17-A4ED-909987A1E4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0F063-0B52-4E93-9E03-381F63DAC9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1D453-98F3-4E1D-AF75-73B557F9E6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FCF44-DAA0-4DAD-ACE5-CA7A2EB463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A78CD-452A-4CAD-8CCB-01A59EC741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47F71-A71B-41AD-81B4-E39008B3E9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9A1A4-FF72-49B7-A62F-75B7CA82BD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26541-9F76-4A15-8404-80C7BDA012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E8FB4-54F0-48E5-A6E8-C2C27DE689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7A377-99B3-45AD-B87D-4207515D2B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D74CD-DAC3-46D6-B75F-A0D6E71C1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F940A-9A90-40A6-86B8-5A3620918F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EAA01-8CF9-4346-AA39-F27E5CDDD0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B1D0F-DEB5-438F-8DC9-A1B1C99B6B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B0104-D94C-4099-AF57-E4A8BE5DAB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48F4F-F690-4C56-80B9-9441D75051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C4753-AE07-49A7-BE88-A767E169C2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D720C-43B1-4AC4-916C-2A30FFFA4E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0872B-D0CC-4F0A-80DD-F7AB05DF71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20B40-4F59-4564-9E85-BFFF79B25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EC52B-F707-4C4A-A4BD-0E25F03727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324000" y="620640"/>
            <a:ext cx="8605800" cy="5164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85840" y="1392120"/>
            <a:ext cx="87152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800"/>
            </a:br>
            <a:br>
              <a:rPr sz="16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285840" y="981000"/>
            <a:ext cx="871524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428760" y="1392120"/>
            <a:ext cx="84294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24000" y="1413000"/>
            <a:ext cx="864072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324000" y="1125360"/>
            <a:ext cx="8496000" cy="465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468360" y="981000"/>
            <a:ext cx="799128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726" name="Picture 2" descr=""/>
          <p:cNvPicPr/>
          <p:nvPr/>
        </p:nvPicPr>
        <p:blipFill>
          <a:blip r:embed="rId1"/>
          <a:stretch/>
        </p:blipFill>
        <p:spPr>
          <a:xfrm>
            <a:off x="0" y="0"/>
            <a:ext cx="9144000" cy="1368360"/>
          </a:xfrm>
          <a:prstGeom prst="rect">
            <a:avLst/>
          </a:prstGeom>
          <a:ln w="0">
            <a:noFill/>
          </a:ln>
        </p:spPr>
      </p:pic>
      <p:pic>
        <p:nvPicPr>
          <p:cNvPr id="6727" name="Picture 3" descr=""/>
          <p:cNvPicPr/>
          <p:nvPr/>
        </p:nvPicPr>
        <p:blipFill>
          <a:blip r:embed="rId2"/>
          <a:stretch/>
        </p:blipFill>
        <p:spPr>
          <a:xfrm>
            <a:off x="1258920" y="2060640"/>
            <a:ext cx="1297080" cy="1528560"/>
          </a:xfrm>
          <a:prstGeom prst="rect">
            <a:avLst/>
          </a:prstGeom>
          <a:ln w="0">
            <a:noFill/>
          </a:ln>
        </p:spPr>
      </p:pic>
      <p:pic>
        <p:nvPicPr>
          <p:cNvPr id="6728" name="Picture 4" descr=""/>
          <p:cNvPicPr/>
          <p:nvPr/>
        </p:nvPicPr>
        <p:blipFill>
          <a:blip r:embed="rId3"/>
          <a:stretch/>
        </p:blipFill>
        <p:spPr>
          <a:xfrm>
            <a:off x="6948360" y="1989000"/>
            <a:ext cx="1444680" cy="1573200"/>
          </a:xfrm>
          <a:prstGeom prst="rect">
            <a:avLst/>
          </a:prstGeom>
          <a:ln w="0">
            <a:noFill/>
          </a:ln>
        </p:spPr>
      </p:pic>
      <p:sp>
        <p:nvSpPr>
          <p:cNvPr id="6729"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ffffff"/>
              </a:solidFill>
              <a:latin typeface="Times New Roman"/>
            </a:endParaRPr>
          </a:p>
        </p:txBody>
      </p:sp>
      <p:sp>
        <p:nvSpPr>
          <p:cNvPr id="6730"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250920" y="1268280"/>
            <a:ext cx="8642160" cy="4516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357120" y="1392120"/>
            <a:ext cx="85726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24000" y="1143000"/>
            <a:ext cx="8605800" cy="4641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6:05Z</dcterms:modified>
  <cp:revision>1</cp:revision>
  <dc:subject/>
  <dc:title/>
</cp:coreProperties>
</file>